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7.jpeg" ContentType="image/jpeg"/>
  <Override PartName="/ppt/media/image23.png" ContentType="image/png"/>
  <Override PartName="/ppt/media/image22.png" ContentType="image/png"/>
  <Override PartName="/ppt/media/image3.png" ContentType="image/png"/>
  <Override PartName="/ppt/media/image26.png" ContentType="image/png"/>
  <Override PartName="/ppt/media/image4.png" ContentType="image/png"/>
  <Override PartName="/ppt/media/image5.jpeg" ContentType="image/jpeg"/>
  <Override PartName="/ppt/media/image28.png" ContentType="image/png"/>
  <Override PartName="/ppt/media/image3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0.jpeg" ContentType="image/jpe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jpeg" ContentType="image/jpeg"/>
  <Override PartName="/ppt/media/image19.png" ContentType="image/png"/>
  <Override PartName="/ppt/media/image29.png" ContentType="image/png"/>
  <Override PartName="/ppt/media/image2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781800" cy="9882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0"/>
            <a:ext cx="6782400" cy="988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1"/>
          <p:cNvSpPr/>
          <p:nvPr/>
        </p:nvSpPr>
        <p:spPr>
          <a:xfrm>
            <a:off x="0" y="0"/>
            <a:ext cx="6781680" cy="9880560"/>
          </a:xfrm>
          <a:custGeom>
            <a:avLst/>
            <a:gdLst>
              <a:gd name="textAreaLeft" fmla="*/ 360 w 6781680"/>
              <a:gd name="textAreaRight" fmla="*/ 6781320 w 6781680"/>
              <a:gd name="textAreaTop" fmla="*/ 360 h 9880560"/>
              <a:gd name="textAreaBottom" fmla="*/ 9880200 h 9880560"/>
            </a:gdLst>
            <a:ahLst/>
            <a:rect l="textAreaLeft" t="textAreaTop" r="textAreaRight" b="textAreaBottom"/>
            <a:pathLst>
              <a:path w="21600" h="31470">
                <a:moveTo>
                  <a:pt x="4" y="0"/>
                </a:moveTo>
                <a:arcTo wR="4" hR="4" stAng="16200000" swAng="-5400000"/>
                <a:lnTo>
                  <a:pt x="0" y="31466"/>
                </a:lnTo>
                <a:arcTo wR="4" hR="4" stAng="10800000" swAng="-5400000"/>
                <a:lnTo>
                  <a:pt x="21596" y="3147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920880" y="749160"/>
            <a:ext cx="4938480" cy="3703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77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79320" y="4692240"/>
            <a:ext cx="542304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294012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dt" idx="3"/>
          </p:nvPr>
        </p:nvSpPr>
        <p:spPr>
          <a:xfrm>
            <a:off x="3838320" y="-360"/>
            <a:ext cx="294012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ftr" idx="4"/>
          </p:nvPr>
        </p:nvSpPr>
        <p:spPr>
          <a:xfrm>
            <a:off x="-360" y="9385200"/>
            <a:ext cx="2940120" cy="49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 type="sldNum" idx="5"/>
          </p:nvPr>
        </p:nvSpPr>
        <p:spPr>
          <a:xfrm>
            <a:off x="3838320" y="9385200"/>
            <a:ext cx="2940120" cy="49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8000"/>
              </a:lnSpc>
              <a:buNone/>
              <a:tabLst>
                <a:tab algn="l" pos="0"/>
                <a:tab algn="l" pos="439560"/>
                <a:tab algn="l" pos="879480"/>
                <a:tab algn="l" pos="1317600"/>
                <a:tab algn="l" pos="1757520"/>
                <a:tab algn="l" pos="2197080"/>
                <a:tab algn="l" pos="2637000"/>
                <a:tab algn="l" pos="3076560"/>
                <a:tab algn="l" pos="3516480"/>
                <a:tab algn="l" pos="3954600"/>
                <a:tab algn="l" pos="4394160"/>
                <a:tab algn="l" pos="4834080"/>
                <a:tab algn="l" pos="5273640"/>
                <a:tab algn="l" pos="5713560"/>
                <a:tab algn="l" pos="6153120"/>
                <a:tab algn="l" pos="6591240"/>
                <a:tab algn="l" pos="7031160"/>
                <a:tab algn="l" pos="7470720"/>
                <a:tab algn="l" pos="7910640"/>
                <a:tab algn="l" pos="8350200"/>
                <a:tab algn="l" pos="8790120"/>
                <a:tab algn="l" pos="8794800"/>
                <a:tab algn="l" pos="9234360"/>
                <a:tab algn="l" pos="9674280"/>
                <a:tab algn="l" pos="10113840"/>
                <a:tab algn="l" pos="10553760"/>
              </a:tabLst>
              <a:defRPr b="0" lang="en-GB" sz="1300" spc="-1" strike="noStrike">
                <a:solidFill>
                  <a:srgbClr val="000000"/>
                </a:solidFill>
                <a:latin typeface="Bitstream Vera Serif"/>
              </a:defRPr>
            </a:lvl1pPr>
          </a:lstStyle>
          <a:p>
            <a:pPr indent="0" algn="r">
              <a:lnSpc>
                <a:spcPct val="98000"/>
              </a:lnSpc>
              <a:buNone/>
              <a:tabLst>
                <a:tab algn="l" pos="0"/>
                <a:tab algn="l" pos="439560"/>
                <a:tab algn="l" pos="879480"/>
                <a:tab algn="l" pos="1317600"/>
                <a:tab algn="l" pos="1757520"/>
                <a:tab algn="l" pos="2197080"/>
                <a:tab algn="l" pos="2637000"/>
                <a:tab algn="l" pos="3076560"/>
                <a:tab algn="l" pos="3516480"/>
                <a:tab algn="l" pos="3954600"/>
                <a:tab algn="l" pos="4394160"/>
                <a:tab algn="l" pos="4834080"/>
                <a:tab algn="l" pos="5273640"/>
                <a:tab algn="l" pos="5713560"/>
                <a:tab algn="l" pos="6153120"/>
                <a:tab algn="l" pos="6591240"/>
                <a:tab algn="l" pos="7031160"/>
                <a:tab algn="l" pos="7470720"/>
                <a:tab algn="l" pos="7910640"/>
                <a:tab algn="l" pos="8350200"/>
                <a:tab algn="l" pos="8790120"/>
                <a:tab algn="l" pos="8794800"/>
                <a:tab algn="l" pos="9234360"/>
                <a:tab algn="l" pos="9674280"/>
                <a:tab algn="l" pos="10113840"/>
                <a:tab algn="l" pos="10553760"/>
              </a:tabLst>
            </a:pPr>
            <a:fld id="{D617E29A-77B7-49A7-B851-B20C46B5A7F4}" type="slidenum">
              <a:rPr b="0" lang="en-GB" sz="1300" spc="-1" strike="noStrike">
                <a:solidFill>
                  <a:srgbClr val="000000"/>
                </a:solidFill>
                <a:latin typeface="Bitstream Vera Serif"/>
              </a:rPr>
              <a:t>&lt;number&gt;</a:t>
            </a:fld>
            <a:endParaRPr b="0" i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38680" y="9385200"/>
            <a:ext cx="29401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8000"/>
              </a:lnSpc>
              <a:tabLst>
                <a:tab algn="l" pos="0"/>
                <a:tab algn="l" pos="439560"/>
                <a:tab algn="l" pos="879480"/>
                <a:tab algn="l" pos="1317600"/>
                <a:tab algn="l" pos="1757520"/>
                <a:tab algn="l" pos="2197080"/>
                <a:tab algn="l" pos="2637000"/>
                <a:tab algn="l" pos="3076560"/>
                <a:tab algn="l" pos="3516480"/>
                <a:tab algn="l" pos="3954600"/>
                <a:tab algn="l" pos="4394160"/>
                <a:tab algn="l" pos="4834080"/>
                <a:tab algn="l" pos="5273640"/>
                <a:tab algn="l" pos="5713560"/>
                <a:tab algn="l" pos="6153120"/>
                <a:tab algn="l" pos="6591240"/>
                <a:tab algn="l" pos="7031160"/>
                <a:tab algn="l" pos="7470720"/>
                <a:tab algn="l" pos="7910640"/>
                <a:tab algn="l" pos="8350200"/>
                <a:tab algn="l" pos="8790120"/>
                <a:tab algn="l" pos="8794800"/>
                <a:tab algn="l" pos="9234360"/>
                <a:tab algn="l" pos="9674280"/>
                <a:tab algn="l" pos="10113840"/>
                <a:tab algn="l" pos="10553760"/>
              </a:tabLst>
            </a:pPr>
            <a:fld id="{B15D8311-69A3-448F-B093-FB6999898D0E}" type="slidenum">
              <a:rPr b="0" lang="en-GB" sz="1300" spc="-1" strike="noStrike">
                <a:solidFill>
                  <a:srgbClr val="000000"/>
                </a:solidFill>
                <a:latin typeface="Bitstream Vera Serif"/>
              </a:rPr>
              <a:t>&lt;number&gt;</a:t>
            </a:fld>
            <a:endParaRPr b="0" i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40280" cy="370512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77880" y="4692240"/>
            <a:ext cx="542592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838680" y="9385200"/>
            <a:ext cx="29401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8000"/>
              </a:lnSpc>
              <a:tabLst>
                <a:tab algn="l" pos="0"/>
                <a:tab algn="l" pos="439560"/>
                <a:tab algn="l" pos="879480"/>
                <a:tab algn="l" pos="1317600"/>
                <a:tab algn="l" pos="1757520"/>
                <a:tab algn="l" pos="2197080"/>
                <a:tab algn="l" pos="2637000"/>
                <a:tab algn="l" pos="3076560"/>
                <a:tab algn="l" pos="3516480"/>
                <a:tab algn="l" pos="3954600"/>
                <a:tab algn="l" pos="4394160"/>
                <a:tab algn="l" pos="4834080"/>
                <a:tab algn="l" pos="5273640"/>
                <a:tab algn="l" pos="5713560"/>
                <a:tab algn="l" pos="6153120"/>
                <a:tab algn="l" pos="6591240"/>
                <a:tab algn="l" pos="7031160"/>
                <a:tab algn="l" pos="7470720"/>
                <a:tab algn="l" pos="7910640"/>
                <a:tab algn="l" pos="8350200"/>
                <a:tab algn="l" pos="8790120"/>
                <a:tab algn="l" pos="8794800"/>
                <a:tab algn="l" pos="9234360"/>
                <a:tab algn="l" pos="9674280"/>
                <a:tab algn="l" pos="10113840"/>
                <a:tab algn="l" pos="10553760"/>
              </a:tabLst>
            </a:pPr>
            <a:fld id="{1CBAFA62-E3C5-4BC7-84C1-5E022CF7D3CB}" type="slidenum">
              <a:rPr b="0" lang="en-GB" sz="1300" spc="-1" strike="noStrike">
                <a:solidFill>
                  <a:srgbClr val="000000"/>
                </a:solidFill>
                <a:latin typeface="Bitstream Vera Serif"/>
              </a:rPr>
              <a:t>&lt;number&gt;</a:t>
            </a:fld>
            <a:endParaRPr b="0" i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40280" cy="370512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77880" y="4692240"/>
            <a:ext cx="542592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3838680" y="9385200"/>
            <a:ext cx="29401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8000"/>
              </a:lnSpc>
              <a:tabLst>
                <a:tab algn="l" pos="0"/>
                <a:tab algn="l" pos="439560"/>
                <a:tab algn="l" pos="879480"/>
                <a:tab algn="l" pos="1317600"/>
                <a:tab algn="l" pos="1757520"/>
                <a:tab algn="l" pos="2197080"/>
                <a:tab algn="l" pos="2637000"/>
                <a:tab algn="l" pos="3076560"/>
                <a:tab algn="l" pos="3516480"/>
                <a:tab algn="l" pos="3954600"/>
                <a:tab algn="l" pos="4394160"/>
                <a:tab algn="l" pos="4834080"/>
                <a:tab algn="l" pos="5273640"/>
                <a:tab algn="l" pos="5713560"/>
                <a:tab algn="l" pos="6153120"/>
                <a:tab algn="l" pos="6591240"/>
                <a:tab algn="l" pos="7031160"/>
                <a:tab algn="l" pos="7470720"/>
                <a:tab algn="l" pos="7910640"/>
                <a:tab algn="l" pos="8350200"/>
                <a:tab algn="l" pos="8790120"/>
                <a:tab algn="l" pos="8794800"/>
                <a:tab algn="l" pos="9234360"/>
                <a:tab algn="l" pos="9674280"/>
                <a:tab algn="l" pos="10113840"/>
                <a:tab algn="l" pos="10553760"/>
              </a:tabLst>
            </a:pPr>
            <a:fld id="{774618BA-A0FA-4A54-925F-2E80E5B5A0D5}" type="slidenum">
              <a:rPr b="0" lang="en-GB" sz="1300" spc="-1" strike="noStrike">
                <a:solidFill>
                  <a:srgbClr val="000000"/>
                </a:solidFill>
                <a:latin typeface="Bitstream Vera Serif"/>
              </a:rPr>
              <a:t>&lt;number&gt;</a:t>
            </a:fld>
            <a:endParaRPr b="0" i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40280" cy="370512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77880" y="4692240"/>
            <a:ext cx="542592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3838680" y="9385200"/>
            <a:ext cx="29401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8000"/>
              </a:lnSpc>
              <a:tabLst>
                <a:tab algn="l" pos="0"/>
                <a:tab algn="l" pos="439560"/>
                <a:tab algn="l" pos="879480"/>
                <a:tab algn="l" pos="1317600"/>
                <a:tab algn="l" pos="1757520"/>
                <a:tab algn="l" pos="2197080"/>
                <a:tab algn="l" pos="2637000"/>
                <a:tab algn="l" pos="3076560"/>
                <a:tab algn="l" pos="3516480"/>
                <a:tab algn="l" pos="3954600"/>
                <a:tab algn="l" pos="4394160"/>
                <a:tab algn="l" pos="4834080"/>
                <a:tab algn="l" pos="5273640"/>
                <a:tab algn="l" pos="5713560"/>
                <a:tab algn="l" pos="6153120"/>
                <a:tab algn="l" pos="6591240"/>
                <a:tab algn="l" pos="7031160"/>
                <a:tab algn="l" pos="7470720"/>
                <a:tab algn="l" pos="7910640"/>
                <a:tab algn="l" pos="8350200"/>
                <a:tab algn="l" pos="8790120"/>
                <a:tab algn="l" pos="8794800"/>
                <a:tab algn="l" pos="9234360"/>
                <a:tab algn="l" pos="9674280"/>
                <a:tab algn="l" pos="10113840"/>
                <a:tab algn="l" pos="10553760"/>
              </a:tabLst>
            </a:pPr>
            <a:fld id="{7477E9C7-9A50-4BD6-9B42-60EF14E0FE8E}" type="slidenum">
              <a:rPr b="0" lang="en-GB" sz="1300" spc="-1" strike="noStrike">
                <a:solidFill>
                  <a:srgbClr val="000000"/>
                </a:solidFill>
                <a:latin typeface="Bitstream Vera Serif"/>
              </a:rPr>
              <a:t>&lt;number&gt;</a:t>
            </a:fld>
            <a:endParaRPr b="0" i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40280" cy="370512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77880" y="4692240"/>
            <a:ext cx="542592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38680" y="9385200"/>
            <a:ext cx="29401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8000"/>
              </a:lnSpc>
              <a:tabLst>
                <a:tab algn="l" pos="0"/>
                <a:tab algn="l" pos="439560"/>
                <a:tab algn="l" pos="879480"/>
                <a:tab algn="l" pos="1317600"/>
                <a:tab algn="l" pos="1757520"/>
                <a:tab algn="l" pos="2197080"/>
                <a:tab algn="l" pos="2637000"/>
                <a:tab algn="l" pos="3076560"/>
                <a:tab algn="l" pos="3516480"/>
                <a:tab algn="l" pos="3954600"/>
                <a:tab algn="l" pos="4394160"/>
                <a:tab algn="l" pos="4834080"/>
                <a:tab algn="l" pos="5273640"/>
                <a:tab algn="l" pos="5713560"/>
                <a:tab algn="l" pos="6153120"/>
                <a:tab algn="l" pos="6591240"/>
                <a:tab algn="l" pos="7031160"/>
                <a:tab algn="l" pos="7470720"/>
                <a:tab algn="l" pos="7910640"/>
                <a:tab algn="l" pos="8350200"/>
                <a:tab algn="l" pos="8790120"/>
                <a:tab algn="l" pos="8794800"/>
                <a:tab algn="l" pos="9234360"/>
                <a:tab algn="l" pos="9674280"/>
                <a:tab algn="l" pos="10113840"/>
                <a:tab algn="l" pos="10553760"/>
              </a:tabLst>
            </a:pPr>
            <a:fld id="{3A6A2A58-7B39-4961-9BF4-1547BC0D0972}" type="slidenum">
              <a:rPr b="0" lang="en-GB" sz="1300" spc="-1" strike="noStrike">
                <a:solidFill>
                  <a:srgbClr val="000000"/>
                </a:solidFill>
                <a:latin typeface="Bitstream Vera Serif"/>
              </a:rPr>
              <a:t>&lt;number&gt;</a:t>
            </a:fld>
            <a:endParaRPr b="0" i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40280" cy="370512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77880" y="4692240"/>
            <a:ext cx="542592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38680" y="9385200"/>
            <a:ext cx="29401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8000"/>
              </a:lnSpc>
              <a:tabLst>
                <a:tab algn="l" pos="0"/>
                <a:tab algn="l" pos="439560"/>
                <a:tab algn="l" pos="879480"/>
                <a:tab algn="l" pos="1317600"/>
                <a:tab algn="l" pos="1757520"/>
                <a:tab algn="l" pos="2197080"/>
                <a:tab algn="l" pos="2637000"/>
                <a:tab algn="l" pos="3076560"/>
                <a:tab algn="l" pos="3516480"/>
                <a:tab algn="l" pos="3954600"/>
                <a:tab algn="l" pos="4394160"/>
                <a:tab algn="l" pos="4834080"/>
                <a:tab algn="l" pos="5273640"/>
                <a:tab algn="l" pos="5713560"/>
                <a:tab algn="l" pos="6153120"/>
                <a:tab algn="l" pos="6591240"/>
                <a:tab algn="l" pos="7031160"/>
                <a:tab algn="l" pos="7470720"/>
                <a:tab algn="l" pos="7910640"/>
                <a:tab algn="l" pos="8350200"/>
                <a:tab algn="l" pos="8790120"/>
                <a:tab algn="l" pos="8794800"/>
                <a:tab algn="l" pos="9234360"/>
                <a:tab algn="l" pos="9674280"/>
                <a:tab algn="l" pos="10113840"/>
                <a:tab algn="l" pos="10553760"/>
              </a:tabLst>
            </a:pPr>
            <a:fld id="{4F946A01-FFC0-488A-B430-4DDB21F0FCC2}" type="slidenum">
              <a:rPr b="0" lang="en-GB" sz="1300" spc="-1" strike="noStrike">
                <a:solidFill>
                  <a:srgbClr val="000000"/>
                </a:solidFill>
                <a:latin typeface="Bitstream Vera Serif"/>
              </a:rPr>
              <a:t>&lt;number&gt;</a:t>
            </a:fld>
            <a:endParaRPr b="0" i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40280" cy="370512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77880" y="4692240"/>
            <a:ext cx="542592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38680" y="9385200"/>
            <a:ext cx="29401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8000"/>
              </a:lnSpc>
              <a:tabLst>
                <a:tab algn="l" pos="0"/>
                <a:tab algn="l" pos="439560"/>
                <a:tab algn="l" pos="879480"/>
                <a:tab algn="l" pos="1317600"/>
                <a:tab algn="l" pos="1757520"/>
                <a:tab algn="l" pos="2197080"/>
                <a:tab algn="l" pos="2637000"/>
                <a:tab algn="l" pos="3076560"/>
                <a:tab algn="l" pos="3516480"/>
                <a:tab algn="l" pos="3954600"/>
                <a:tab algn="l" pos="4394160"/>
                <a:tab algn="l" pos="4834080"/>
                <a:tab algn="l" pos="5273640"/>
                <a:tab algn="l" pos="5713560"/>
                <a:tab algn="l" pos="6153120"/>
                <a:tab algn="l" pos="6591240"/>
                <a:tab algn="l" pos="7031160"/>
                <a:tab algn="l" pos="7470720"/>
                <a:tab algn="l" pos="7910640"/>
                <a:tab algn="l" pos="8350200"/>
                <a:tab algn="l" pos="8790120"/>
                <a:tab algn="l" pos="8794800"/>
                <a:tab algn="l" pos="9234360"/>
                <a:tab algn="l" pos="9674280"/>
                <a:tab algn="l" pos="10113840"/>
                <a:tab algn="l" pos="10553760"/>
              </a:tabLst>
            </a:pPr>
            <a:fld id="{505D9890-3823-4018-824D-AF707E189FFC}" type="slidenum">
              <a:rPr b="0" lang="en-GB" sz="1300" spc="-1" strike="noStrike">
                <a:solidFill>
                  <a:srgbClr val="000000"/>
                </a:solidFill>
                <a:latin typeface="Bitstream Vera Serif"/>
              </a:rPr>
              <a:t>&lt;number&gt;</a:t>
            </a:fld>
            <a:endParaRPr b="0" i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40280" cy="370512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77880" y="4692240"/>
            <a:ext cx="542592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38680" y="9385200"/>
            <a:ext cx="29401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8000"/>
              </a:lnSpc>
              <a:tabLst>
                <a:tab algn="l" pos="0"/>
                <a:tab algn="l" pos="439560"/>
                <a:tab algn="l" pos="879480"/>
                <a:tab algn="l" pos="1317600"/>
                <a:tab algn="l" pos="1757520"/>
                <a:tab algn="l" pos="2197080"/>
                <a:tab algn="l" pos="2637000"/>
                <a:tab algn="l" pos="3076560"/>
                <a:tab algn="l" pos="3516480"/>
                <a:tab algn="l" pos="3954600"/>
                <a:tab algn="l" pos="4394160"/>
                <a:tab algn="l" pos="4834080"/>
                <a:tab algn="l" pos="5273640"/>
                <a:tab algn="l" pos="5713560"/>
                <a:tab algn="l" pos="6153120"/>
                <a:tab algn="l" pos="6591240"/>
                <a:tab algn="l" pos="7031160"/>
                <a:tab algn="l" pos="7470720"/>
                <a:tab algn="l" pos="7910640"/>
                <a:tab algn="l" pos="8350200"/>
                <a:tab algn="l" pos="8790120"/>
                <a:tab algn="l" pos="8794800"/>
                <a:tab algn="l" pos="9234360"/>
                <a:tab algn="l" pos="9674280"/>
                <a:tab algn="l" pos="10113840"/>
                <a:tab algn="l" pos="10553760"/>
              </a:tabLst>
            </a:pPr>
            <a:fld id="{2E723585-71AA-4F6D-AC31-FE16B1FF1C6A}" type="slidenum">
              <a:rPr b="0" lang="en-GB" sz="1300" spc="-1" strike="noStrike">
                <a:solidFill>
                  <a:srgbClr val="000000"/>
                </a:solidFill>
                <a:latin typeface="Bitstream Vera Serif"/>
              </a:rPr>
              <a:t>&lt;number&gt;</a:t>
            </a:fld>
            <a:endParaRPr b="0" i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40280" cy="370512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77880" y="4692240"/>
            <a:ext cx="542592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38680" y="9385200"/>
            <a:ext cx="29401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8000"/>
              </a:lnSpc>
              <a:tabLst>
                <a:tab algn="l" pos="0"/>
                <a:tab algn="l" pos="439560"/>
                <a:tab algn="l" pos="879480"/>
                <a:tab algn="l" pos="1317600"/>
                <a:tab algn="l" pos="1757520"/>
                <a:tab algn="l" pos="2197080"/>
                <a:tab algn="l" pos="2637000"/>
                <a:tab algn="l" pos="3076560"/>
                <a:tab algn="l" pos="3516480"/>
                <a:tab algn="l" pos="3954600"/>
                <a:tab algn="l" pos="4394160"/>
                <a:tab algn="l" pos="4834080"/>
                <a:tab algn="l" pos="5273640"/>
                <a:tab algn="l" pos="5713560"/>
                <a:tab algn="l" pos="6153120"/>
                <a:tab algn="l" pos="6591240"/>
                <a:tab algn="l" pos="7031160"/>
                <a:tab algn="l" pos="7470720"/>
                <a:tab algn="l" pos="7910640"/>
                <a:tab algn="l" pos="8350200"/>
                <a:tab algn="l" pos="8790120"/>
                <a:tab algn="l" pos="8794800"/>
                <a:tab algn="l" pos="9234360"/>
                <a:tab algn="l" pos="9674280"/>
                <a:tab algn="l" pos="10113840"/>
                <a:tab algn="l" pos="10553760"/>
              </a:tabLst>
            </a:pPr>
            <a:fld id="{6F0218A8-6DA5-4DF7-84C8-02E107CEC943}" type="slidenum">
              <a:rPr b="0" lang="en-GB" sz="1300" spc="-1" strike="noStrike">
                <a:solidFill>
                  <a:srgbClr val="000000"/>
                </a:solidFill>
                <a:latin typeface="Bitstream Vera Serif"/>
              </a:rPr>
              <a:t>&lt;number&gt;</a:t>
            </a:fld>
            <a:endParaRPr b="0" i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40280" cy="370512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77880" y="4692240"/>
            <a:ext cx="542592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38680" y="9385200"/>
            <a:ext cx="29401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8000"/>
              </a:lnSpc>
              <a:tabLst>
                <a:tab algn="l" pos="0"/>
                <a:tab algn="l" pos="439560"/>
                <a:tab algn="l" pos="879480"/>
                <a:tab algn="l" pos="1317600"/>
                <a:tab algn="l" pos="1757520"/>
                <a:tab algn="l" pos="2197080"/>
                <a:tab algn="l" pos="2637000"/>
                <a:tab algn="l" pos="3076560"/>
                <a:tab algn="l" pos="3516480"/>
                <a:tab algn="l" pos="3954600"/>
                <a:tab algn="l" pos="4394160"/>
                <a:tab algn="l" pos="4834080"/>
                <a:tab algn="l" pos="5273640"/>
                <a:tab algn="l" pos="5713560"/>
                <a:tab algn="l" pos="6153120"/>
                <a:tab algn="l" pos="6591240"/>
                <a:tab algn="l" pos="7031160"/>
                <a:tab algn="l" pos="7470720"/>
                <a:tab algn="l" pos="7910640"/>
                <a:tab algn="l" pos="8350200"/>
                <a:tab algn="l" pos="8790120"/>
                <a:tab algn="l" pos="8794800"/>
                <a:tab algn="l" pos="9234360"/>
                <a:tab algn="l" pos="9674280"/>
                <a:tab algn="l" pos="10113840"/>
                <a:tab algn="l" pos="10553760"/>
              </a:tabLst>
            </a:pPr>
            <a:fld id="{AD462A1A-68B7-4154-9E34-F64B1CD50B34}" type="slidenum">
              <a:rPr b="0" lang="en-GB" sz="1300" spc="-1" strike="noStrike">
                <a:solidFill>
                  <a:srgbClr val="000000"/>
                </a:solidFill>
                <a:latin typeface="Bitstream Vera Serif"/>
              </a:rPr>
              <a:t>&lt;number&gt;</a:t>
            </a:fld>
            <a:endParaRPr b="0" i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40280" cy="370512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77880" y="4692240"/>
            <a:ext cx="542592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38680" y="9385200"/>
            <a:ext cx="29401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8000"/>
              </a:lnSpc>
              <a:tabLst>
                <a:tab algn="l" pos="0"/>
                <a:tab algn="l" pos="439560"/>
                <a:tab algn="l" pos="879480"/>
                <a:tab algn="l" pos="1317600"/>
                <a:tab algn="l" pos="1757520"/>
                <a:tab algn="l" pos="2197080"/>
                <a:tab algn="l" pos="2637000"/>
                <a:tab algn="l" pos="3076560"/>
                <a:tab algn="l" pos="3516480"/>
                <a:tab algn="l" pos="3954600"/>
                <a:tab algn="l" pos="4394160"/>
                <a:tab algn="l" pos="4834080"/>
                <a:tab algn="l" pos="5273640"/>
                <a:tab algn="l" pos="5713560"/>
                <a:tab algn="l" pos="6153120"/>
                <a:tab algn="l" pos="6591240"/>
                <a:tab algn="l" pos="7031160"/>
                <a:tab algn="l" pos="7470720"/>
                <a:tab algn="l" pos="7910640"/>
                <a:tab algn="l" pos="8350200"/>
                <a:tab algn="l" pos="8790120"/>
                <a:tab algn="l" pos="8794800"/>
                <a:tab algn="l" pos="9234360"/>
                <a:tab algn="l" pos="9674280"/>
                <a:tab algn="l" pos="10113840"/>
                <a:tab algn="l" pos="10553760"/>
              </a:tabLst>
            </a:pPr>
            <a:fld id="{118259EE-B58D-431C-8C4A-F51B59CE9E60}" type="slidenum">
              <a:rPr b="0" lang="en-GB" sz="1300" spc="-1" strike="noStrike">
                <a:solidFill>
                  <a:srgbClr val="000000"/>
                </a:solidFill>
                <a:latin typeface="Bitstream Vera Serif"/>
              </a:rPr>
              <a:t>&lt;number&gt;</a:t>
            </a:fld>
            <a:endParaRPr b="0" i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40280" cy="370512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77880" y="4692240"/>
            <a:ext cx="542592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38680" y="9385200"/>
            <a:ext cx="29401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8000"/>
              </a:lnSpc>
              <a:tabLst>
                <a:tab algn="l" pos="0"/>
                <a:tab algn="l" pos="439560"/>
                <a:tab algn="l" pos="879480"/>
                <a:tab algn="l" pos="1317600"/>
                <a:tab algn="l" pos="1757520"/>
                <a:tab algn="l" pos="2197080"/>
                <a:tab algn="l" pos="2637000"/>
                <a:tab algn="l" pos="3076560"/>
                <a:tab algn="l" pos="3516480"/>
                <a:tab algn="l" pos="3954600"/>
                <a:tab algn="l" pos="4394160"/>
                <a:tab algn="l" pos="4834080"/>
                <a:tab algn="l" pos="5273640"/>
                <a:tab algn="l" pos="5713560"/>
                <a:tab algn="l" pos="6153120"/>
                <a:tab algn="l" pos="6591240"/>
                <a:tab algn="l" pos="7031160"/>
                <a:tab algn="l" pos="7470720"/>
                <a:tab algn="l" pos="7910640"/>
                <a:tab algn="l" pos="8350200"/>
                <a:tab algn="l" pos="8790120"/>
                <a:tab algn="l" pos="8794800"/>
                <a:tab algn="l" pos="9234360"/>
                <a:tab algn="l" pos="9674280"/>
                <a:tab algn="l" pos="10113840"/>
                <a:tab algn="l" pos="10553760"/>
              </a:tabLst>
            </a:pPr>
            <a:fld id="{E7EE7EF0-DD0C-4BEA-B951-7DCC21F7CFC2}" type="slidenum">
              <a:rPr b="0" lang="en-GB" sz="1300" spc="-1" strike="noStrike">
                <a:solidFill>
                  <a:srgbClr val="000000"/>
                </a:solidFill>
                <a:latin typeface="Bitstream Vera Serif"/>
              </a:rPr>
              <a:t>&lt;number&gt;</a:t>
            </a:fld>
            <a:endParaRPr b="0" i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7"/>
          <p:cNvSpPr/>
          <p:nvPr/>
        </p:nvSpPr>
        <p:spPr>
          <a:xfrm>
            <a:off x="3838680" y="9385200"/>
            <a:ext cx="29401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8000"/>
              </a:lnSpc>
              <a:tabLst>
                <a:tab algn="l" pos="0"/>
                <a:tab algn="l" pos="439560"/>
                <a:tab algn="l" pos="879480"/>
                <a:tab algn="l" pos="1317600"/>
                <a:tab algn="l" pos="1757520"/>
                <a:tab algn="l" pos="2197080"/>
                <a:tab algn="l" pos="2637000"/>
                <a:tab algn="l" pos="3076560"/>
                <a:tab algn="l" pos="3516480"/>
                <a:tab algn="l" pos="3954600"/>
                <a:tab algn="l" pos="4394160"/>
                <a:tab algn="l" pos="4834080"/>
                <a:tab algn="l" pos="5273640"/>
                <a:tab algn="l" pos="5713560"/>
                <a:tab algn="l" pos="6153120"/>
                <a:tab algn="l" pos="6591240"/>
                <a:tab algn="l" pos="7031160"/>
                <a:tab algn="l" pos="7470720"/>
                <a:tab algn="l" pos="7910640"/>
                <a:tab algn="l" pos="8350200"/>
                <a:tab algn="l" pos="8790120"/>
                <a:tab algn="l" pos="8794800"/>
                <a:tab algn="l" pos="9234360"/>
                <a:tab algn="l" pos="9674280"/>
                <a:tab algn="l" pos="10113840"/>
                <a:tab algn="l" pos="10553760"/>
              </a:tabLst>
            </a:pPr>
            <a:fld id="{9F106DC9-50D8-4DAB-A225-3AC3C39204A0}" type="slidenum">
              <a:rPr b="0" lang="en-GB" sz="1300" spc="-1" strike="noStrike">
                <a:solidFill>
                  <a:srgbClr val="000000"/>
                </a:solidFill>
                <a:latin typeface="Bitstream Vera Serif"/>
                <a:ea typeface="ＭＳ Ｐゴシック"/>
              </a:rPr>
              <a:t>&lt;number&gt;</a:t>
            </a:fld>
            <a:endParaRPr b="0" i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7"/>
          <p:cNvSpPr/>
          <p:nvPr/>
        </p:nvSpPr>
        <p:spPr>
          <a:xfrm>
            <a:off x="3840120" y="9385200"/>
            <a:ext cx="294012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b">
            <a:noAutofit/>
          </a:bodyPr>
          <a:p>
            <a:pPr algn="r">
              <a:tabLst>
                <a:tab algn="l" pos="0"/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fld id="{7934A822-A5BD-4784-B3A2-B05A2DEBEC97}" type="slidenum">
              <a:rPr b="0" lang="en-GB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922320" y="74916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79320" y="4692600"/>
            <a:ext cx="542304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38680" y="9385200"/>
            <a:ext cx="29401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8000"/>
              </a:lnSpc>
              <a:tabLst>
                <a:tab algn="l" pos="0"/>
                <a:tab algn="l" pos="439560"/>
                <a:tab algn="l" pos="879480"/>
                <a:tab algn="l" pos="1317600"/>
                <a:tab algn="l" pos="1757520"/>
                <a:tab algn="l" pos="2197080"/>
                <a:tab algn="l" pos="2637000"/>
                <a:tab algn="l" pos="3076560"/>
                <a:tab algn="l" pos="3516480"/>
                <a:tab algn="l" pos="3954600"/>
                <a:tab algn="l" pos="4394160"/>
                <a:tab algn="l" pos="4834080"/>
                <a:tab algn="l" pos="5273640"/>
                <a:tab algn="l" pos="5713560"/>
                <a:tab algn="l" pos="6153120"/>
                <a:tab algn="l" pos="6591240"/>
                <a:tab algn="l" pos="7031160"/>
                <a:tab algn="l" pos="7470720"/>
                <a:tab algn="l" pos="7910640"/>
                <a:tab algn="l" pos="8350200"/>
                <a:tab algn="l" pos="8790120"/>
                <a:tab algn="l" pos="8794800"/>
                <a:tab algn="l" pos="9234360"/>
                <a:tab algn="l" pos="9674280"/>
                <a:tab algn="l" pos="10113840"/>
                <a:tab algn="l" pos="10553760"/>
              </a:tabLst>
            </a:pPr>
            <a:fld id="{8B58074B-A4B8-4A77-BD81-97F8B2AD8976}" type="slidenum">
              <a:rPr b="0" lang="en-GB" sz="1300" spc="-1" strike="noStrike">
                <a:solidFill>
                  <a:srgbClr val="000000"/>
                </a:solidFill>
                <a:latin typeface="Bitstream Vera Serif"/>
              </a:rPr>
              <a:t>&lt;number&gt;</a:t>
            </a:fld>
            <a:endParaRPr b="0" i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40280" cy="370512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77880" y="4692240"/>
            <a:ext cx="542592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38680" y="9385200"/>
            <a:ext cx="29401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8000"/>
              </a:lnSpc>
              <a:tabLst>
                <a:tab algn="l" pos="0"/>
                <a:tab algn="l" pos="439560"/>
                <a:tab algn="l" pos="879480"/>
                <a:tab algn="l" pos="1317600"/>
                <a:tab algn="l" pos="1757520"/>
                <a:tab algn="l" pos="2197080"/>
                <a:tab algn="l" pos="2637000"/>
                <a:tab algn="l" pos="3076560"/>
                <a:tab algn="l" pos="3516480"/>
                <a:tab algn="l" pos="3954600"/>
                <a:tab algn="l" pos="4394160"/>
                <a:tab algn="l" pos="4834080"/>
                <a:tab algn="l" pos="5273640"/>
                <a:tab algn="l" pos="5713560"/>
                <a:tab algn="l" pos="6153120"/>
                <a:tab algn="l" pos="6591240"/>
                <a:tab algn="l" pos="7031160"/>
                <a:tab algn="l" pos="7470720"/>
                <a:tab algn="l" pos="7910640"/>
                <a:tab algn="l" pos="8350200"/>
                <a:tab algn="l" pos="8790120"/>
                <a:tab algn="l" pos="8794800"/>
                <a:tab algn="l" pos="9234360"/>
                <a:tab algn="l" pos="9674280"/>
                <a:tab algn="l" pos="10113840"/>
                <a:tab algn="l" pos="10553760"/>
              </a:tabLst>
            </a:pPr>
            <a:fld id="{4D0F78A6-2E75-4403-80A7-3864FCBAA1CF}" type="slidenum">
              <a:rPr b="0" lang="en-GB" sz="1300" spc="-1" strike="noStrike">
                <a:solidFill>
                  <a:srgbClr val="000000"/>
                </a:solidFill>
                <a:latin typeface="Bitstream Vera Serif"/>
              </a:rPr>
              <a:t>&lt;number&gt;</a:t>
            </a:fld>
            <a:endParaRPr b="0" i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7"/>
          <p:cNvSpPr/>
          <p:nvPr/>
        </p:nvSpPr>
        <p:spPr>
          <a:xfrm>
            <a:off x="3838680" y="9385200"/>
            <a:ext cx="29401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8000"/>
              </a:lnSpc>
              <a:tabLst>
                <a:tab algn="l" pos="0"/>
                <a:tab algn="l" pos="439560"/>
                <a:tab algn="l" pos="879480"/>
                <a:tab algn="l" pos="1317600"/>
                <a:tab algn="l" pos="1757520"/>
                <a:tab algn="l" pos="2197080"/>
                <a:tab algn="l" pos="2637000"/>
                <a:tab algn="l" pos="3076560"/>
                <a:tab algn="l" pos="3516480"/>
                <a:tab algn="l" pos="3954600"/>
                <a:tab algn="l" pos="4394160"/>
                <a:tab algn="l" pos="4834080"/>
                <a:tab algn="l" pos="5273640"/>
                <a:tab algn="l" pos="5713560"/>
                <a:tab algn="l" pos="6153120"/>
                <a:tab algn="l" pos="6591240"/>
                <a:tab algn="l" pos="7031160"/>
                <a:tab algn="l" pos="7470720"/>
                <a:tab algn="l" pos="7910640"/>
                <a:tab algn="l" pos="8350200"/>
                <a:tab algn="l" pos="8790120"/>
                <a:tab algn="l" pos="8794800"/>
                <a:tab algn="l" pos="9234360"/>
                <a:tab algn="l" pos="9674280"/>
                <a:tab algn="l" pos="10113840"/>
                <a:tab algn="l" pos="10553760"/>
              </a:tabLst>
            </a:pPr>
            <a:fld id="{9F6FDB0A-7E3A-42AB-91B2-03087C6ECF20}" type="slidenum">
              <a:rPr b="0" lang="en-GB" sz="1300" spc="-1" strike="noStrike">
                <a:solidFill>
                  <a:srgbClr val="000000"/>
                </a:solidFill>
                <a:latin typeface="Bitstream Vera Serif"/>
                <a:ea typeface="ＭＳ Ｐゴシック"/>
              </a:rPr>
              <a:t>&lt;number&gt;</a:t>
            </a:fld>
            <a:endParaRPr b="0" i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7"/>
          <p:cNvSpPr/>
          <p:nvPr/>
        </p:nvSpPr>
        <p:spPr>
          <a:xfrm>
            <a:off x="3840120" y="9385200"/>
            <a:ext cx="294012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b">
            <a:noAutofit/>
          </a:bodyPr>
          <a:p>
            <a:pPr algn="r">
              <a:tabLst>
                <a:tab algn="l" pos="0"/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fld id="{49EEACF1-70FE-420F-A61D-DF8FC187236D}" type="slidenum">
              <a:rPr b="0" lang="en-GB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922320" y="74916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79320" y="4692600"/>
            <a:ext cx="5423040" cy="444672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 EOS, second NA4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7"/>
          <p:cNvSpPr/>
          <p:nvPr/>
        </p:nvSpPr>
        <p:spPr>
          <a:xfrm>
            <a:off x="3838680" y="9385200"/>
            <a:ext cx="29401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8000"/>
              </a:lnSpc>
              <a:tabLst>
                <a:tab algn="l" pos="0"/>
                <a:tab algn="l" pos="439560"/>
                <a:tab algn="l" pos="879480"/>
                <a:tab algn="l" pos="1317600"/>
                <a:tab algn="l" pos="1757520"/>
                <a:tab algn="l" pos="2197080"/>
                <a:tab algn="l" pos="2637000"/>
                <a:tab algn="l" pos="3076560"/>
                <a:tab algn="l" pos="3516480"/>
                <a:tab algn="l" pos="3954600"/>
                <a:tab algn="l" pos="4394160"/>
                <a:tab algn="l" pos="4834080"/>
                <a:tab algn="l" pos="5273640"/>
                <a:tab algn="l" pos="5713560"/>
                <a:tab algn="l" pos="6153120"/>
                <a:tab algn="l" pos="6591240"/>
                <a:tab algn="l" pos="7031160"/>
                <a:tab algn="l" pos="7470720"/>
                <a:tab algn="l" pos="7910640"/>
                <a:tab algn="l" pos="8350200"/>
                <a:tab algn="l" pos="8790120"/>
                <a:tab algn="l" pos="8794800"/>
                <a:tab algn="l" pos="9234360"/>
                <a:tab algn="l" pos="9674280"/>
                <a:tab algn="l" pos="10113840"/>
                <a:tab algn="l" pos="10553760"/>
              </a:tabLst>
            </a:pPr>
            <a:fld id="{83DECB79-9149-491C-9562-E75D6282E526}" type="slidenum">
              <a:rPr b="0" lang="en-GB" sz="1300" spc="-1" strike="noStrike">
                <a:solidFill>
                  <a:srgbClr val="000000"/>
                </a:solidFill>
                <a:latin typeface="Bitstream Vera Serif"/>
              </a:rPr>
              <a:t>&lt;number&gt;</a:t>
            </a:fld>
            <a:endParaRPr b="0" i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7"/>
          <p:cNvSpPr/>
          <p:nvPr/>
        </p:nvSpPr>
        <p:spPr>
          <a:xfrm>
            <a:off x="3838680" y="9385200"/>
            <a:ext cx="29401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8000"/>
              </a:lnSpc>
              <a:tabLst>
                <a:tab algn="l" pos="0"/>
                <a:tab algn="l" pos="439560"/>
                <a:tab algn="l" pos="879480"/>
                <a:tab algn="l" pos="1317600"/>
                <a:tab algn="l" pos="1757520"/>
                <a:tab algn="l" pos="2197080"/>
                <a:tab algn="l" pos="2637000"/>
                <a:tab algn="l" pos="3076560"/>
                <a:tab algn="l" pos="3516480"/>
                <a:tab algn="l" pos="3954600"/>
                <a:tab algn="l" pos="4394160"/>
                <a:tab algn="l" pos="4834080"/>
                <a:tab algn="l" pos="5273640"/>
                <a:tab algn="l" pos="5713560"/>
                <a:tab algn="l" pos="6153120"/>
                <a:tab algn="l" pos="6591240"/>
                <a:tab algn="l" pos="7031160"/>
                <a:tab algn="l" pos="7470720"/>
                <a:tab algn="l" pos="7910640"/>
                <a:tab algn="l" pos="8350200"/>
                <a:tab algn="l" pos="8790120"/>
                <a:tab algn="l" pos="8794800"/>
                <a:tab algn="l" pos="9234360"/>
                <a:tab algn="l" pos="9674280"/>
                <a:tab algn="l" pos="10113840"/>
                <a:tab algn="l" pos="10553760"/>
              </a:tabLst>
            </a:pPr>
            <a:fld id="{842145A4-5F1E-4CC8-AF7F-08DCD13F49D7}" type="slidenum">
              <a:rPr b="0" lang="en-GB" sz="1300" spc="-1" strike="noStrike">
                <a:solidFill>
                  <a:srgbClr val="000000"/>
                </a:solidFill>
                <a:latin typeface="Bitstream Vera Serif"/>
                <a:ea typeface="ＭＳ Ｐゴシック"/>
              </a:rPr>
              <a:t>&lt;number&gt;</a:t>
            </a:fld>
            <a:endParaRPr b="0" i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7"/>
          <p:cNvSpPr/>
          <p:nvPr/>
        </p:nvSpPr>
        <p:spPr>
          <a:xfrm>
            <a:off x="3840120" y="9385200"/>
            <a:ext cx="294012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b">
            <a:noAutofit/>
          </a:bodyPr>
          <a:p>
            <a:pPr algn="r">
              <a:tabLst>
                <a:tab algn="l" pos="0"/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fld id="{17F70B18-3C33-4451-944D-469BCBCD0AFB}" type="slidenum">
              <a:rPr b="0" lang="en-GB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922320" y="74916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79320" y="4692600"/>
            <a:ext cx="5423040" cy="444672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 EOS, second NA4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38680" y="9385200"/>
            <a:ext cx="29401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8000"/>
              </a:lnSpc>
              <a:tabLst>
                <a:tab algn="l" pos="0"/>
                <a:tab algn="l" pos="439560"/>
                <a:tab algn="l" pos="879480"/>
                <a:tab algn="l" pos="1317600"/>
                <a:tab algn="l" pos="1757520"/>
                <a:tab algn="l" pos="2197080"/>
                <a:tab algn="l" pos="2637000"/>
                <a:tab algn="l" pos="3076560"/>
                <a:tab algn="l" pos="3516480"/>
                <a:tab algn="l" pos="3954600"/>
                <a:tab algn="l" pos="4394160"/>
                <a:tab algn="l" pos="4834080"/>
                <a:tab algn="l" pos="5273640"/>
                <a:tab algn="l" pos="5713560"/>
                <a:tab algn="l" pos="6153120"/>
                <a:tab algn="l" pos="6591240"/>
                <a:tab algn="l" pos="7031160"/>
                <a:tab algn="l" pos="7470720"/>
                <a:tab algn="l" pos="7910640"/>
                <a:tab algn="l" pos="8350200"/>
                <a:tab algn="l" pos="8790120"/>
                <a:tab algn="l" pos="8794800"/>
                <a:tab algn="l" pos="9234360"/>
                <a:tab algn="l" pos="9674280"/>
                <a:tab algn="l" pos="10113840"/>
                <a:tab algn="l" pos="10553760"/>
              </a:tabLst>
            </a:pPr>
            <a:fld id="{60D16039-2AAF-4ADF-883E-97DC10295C9E}" type="slidenum">
              <a:rPr b="0" lang="en-GB" sz="1300" spc="-1" strike="noStrike">
                <a:solidFill>
                  <a:srgbClr val="000000"/>
                </a:solidFill>
                <a:latin typeface="Bitstream Vera Serif"/>
              </a:rPr>
              <a:t>&lt;number&gt;</a:t>
            </a:fld>
            <a:endParaRPr b="0" i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40280" cy="370512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77880" y="4692240"/>
            <a:ext cx="542592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3838680" y="9385200"/>
            <a:ext cx="29401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8000"/>
              </a:lnSpc>
              <a:tabLst>
                <a:tab algn="l" pos="0"/>
                <a:tab algn="l" pos="439560"/>
                <a:tab algn="l" pos="879480"/>
                <a:tab algn="l" pos="1317600"/>
                <a:tab algn="l" pos="1757520"/>
                <a:tab algn="l" pos="2197080"/>
                <a:tab algn="l" pos="2637000"/>
                <a:tab algn="l" pos="3076560"/>
                <a:tab algn="l" pos="3516480"/>
                <a:tab algn="l" pos="3954600"/>
                <a:tab algn="l" pos="4394160"/>
                <a:tab algn="l" pos="4834080"/>
                <a:tab algn="l" pos="5273640"/>
                <a:tab algn="l" pos="5713560"/>
                <a:tab algn="l" pos="6153120"/>
                <a:tab algn="l" pos="6591240"/>
                <a:tab algn="l" pos="7031160"/>
                <a:tab algn="l" pos="7470720"/>
                <a:tab algn="l" pos="7910640"/>
                <a:tab algn="l" pos="8350200"/>
                <a:tab algn="l" pos="8790120"/>
                <a:tab algn="l" pos="8794800"/>
                <a:tab algn="l" pos="9234360"/>
                <a:tab algn="l" pos="9674280"/>
                <a:tab algn="l" pos="10113840"/>
                <a:tab algn="l" pos="10553760"/>
              </a:tabLst>
            </a:pPr>
            <a:fld id="{64685FEA-0F30-4A89-815D-52FEC94150C2}" type="slidenum">
              <a:rPr b="0" lang="en-GB" sz="1300" spc="-1" strike="noStrike">
                <a:solidFill>
                  <a:srgbClr val="000000"/>
                </a:solidFill>
                <a:latin typeface="Bitstream Vera Serif"/>
              </a:rPr>
              <a:t>&lt;number&gt;</a:t>
            </a:fld>
            <a:endParaRPr b="0" i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40280" cy="370512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77880" y="4692240"/>
            <a:ext cx="542592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3838680" y="9385200"/>
            <a:ext cx="29401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8000"/>
              </a:lnSpc>
              <a:tabLst>
                <a:tab algn="l" pos="0"/>
                <a:tab algn="l" pos="439560"/>
                <a:tab algn="l" pos="879480"/>
                <a:tab algn="l" pos="1317600"/>
                <a:tab algn="l" pos="1757520"/>
                <a:tab algn="l" pos="2197080"/>
                <a:tab algn="l" pos="2637000"/>
                <a:tab algn="l" pos="3076560"/>
                <a:tab algn="l" pos="3516480"/>
                <a:tab algn="l" pos="3954600"/>
                <a:tab algn="l" pos="4394160"/>
                <a:tab algn="l" pos="4834080"/>
                <a:tab algn="l" pos="5273640"/>
                <a:tab algn="l" pos="5713560"/>
                <a:tab algn="l" pos="6153120"/>
                <a:tab algn="l" pos="6591240"/>
                <a:tab algn="l" pos="7031160"/>
                <a:tab algn="l" pos="7470720"/>
                <a:tab algn="l" pos="7910640"/>
                <a:tab algn="l" pos="8350200"/>
                <a:tab algn="l" pos="8790120"/>
                <a:tab algn="l" pos="8794800"/>
                <a:tab algn="l" pos="9234360"/>
                <a:tab algn="l" pos="9674280"/>
                <a:tab algn="l" pos="10113840"/>
                <a:tab algn="l" pos="10553760"/>
              </a:tabLst>
            </a:pPr>
            <a:fld id="{70AA68D2-91A3-4EC9-8CA8-E163E5A37772}" type="slidenum">
              <a:rPr b="0" lang="en-GB" sz="1300" spc="-1" strike="noStrike">
                <a:solidFill>
                  <a:srgbClr val="000000"/>
                </a:solidFill>
                <a:latin typeface="Bitstream Vera Serif"/>
              </a:rPr>
              <a:t>&lt;number&gt;</a:t>
            </a:fld>
            <a:endParaRPr b="0" i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40280" cy="370512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77880" y="4692240"/>
            <a:ext cx="542592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3838680" y="9385200"/>
            <a:ext cx="29401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8000"/>
              </a:lnSpc>
              <a:tabLst>
                <a:tab algn="l" pos="0"/>
                <a:tab algn="l" pos="439560"/>
                <a:tab algn="l" pos="879480"/>
                <a:tab algn="l" pos="1317600"/>
                <a:tab algn="l" pos="1757520"/>
                <a:tab algn="l" pos="2197080"/>
                <a:tab algn="l" pos="2637000"/>
                <a:tab algn="l" pos="3076560"/>
                <a:tab algn="l" pos="3516480"/>
                <a:tab algn="l" pos="3954600"/>
                <a:tab algn="l" pos="4394160"/>
                <a:tab algn="l" pos="4834080"/>
                <a:tab algn="l" pos="5273640"/>
                <a:tab algn="l" pos="5713560"/>
                <a:tab algn="l" pos="6153120"/>
                <a:tab algn="l" pos="6591240"/>
                <a:tab algn="l" pos="7031160"/>
                <a:tab algn="l" pos="7470720"/>
                <a:tab algn="l" pos="7910640"/>
                <a:tab algn="l" pos="8350200"/>
                <a:tab algn="l" pos="8790120"/>
                <a:tab algn="l" pos="8794800"/>
                <a:tab algn="l" pos="9234360"/>
                <a:tab algn="l" pos="9674280"/>
                <a:tab algn="l" pos="10113840"/>
                <a:tab algn="l" pos="10553760"/>
              </a:tabLst>
            </a:pPr>
            <a:fld id="{26BA4414-DD8D-48CB-BBCF-3DBFC834B041}" type="slidenum">
              <a:rPr b="0" lang="en-GB" sz="1300" spc="-1" strike="noStrike">
                <a:solidFill>
                  <a:srgbClr val="000000"/>
                </a:solidFill>
                <a:latin typeface="Bitstream Vera Serif"/>
              </a:rPr>
              <a:t>&lt;number&gt;</a:t>
            </a:fld>
            <a:endParaRPr b="0" i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40280" cy="370512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77880" y="4692240"/>
            <a:ext cx="542592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38680" y="9385200"/>
            <a:ext cx="29401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8000"/>
              </a:lnSpc>
              <a:tabLst>
                <a:tab algn="l" pos="0"/>
                <a:tab algn="l" pos="439560"/>
                <a:tab algn="l" pos="879480"/>
                <a:tab algn="l" pos="1317600"/>
                <a:tab algn="l" pos="1757520"/>
                <a:tab algn="l" pos="2197080"/>
                <a:tab algn="l" pos="2637000"/>
                <a:tab algn="l" pos="3076560"/>
                <a:tab algn="l" pos="3516480"/>
                <a:tab algn="l" pos="3954600"/>
                <a:tab algn="l" pos="4394160"/>
                <a:tab algn="l" pos="4834080"/>
                <a:tab algn="l" pos="5273640"/>
                <a:tab algn="l" pos="5713560"/>
                <a:tab algn="l" pos="6153120"/>
                <a:tab algn="l" pos="6591240"/>
                <a:tab algn="l" pos="7031160"/>
                <a:tab algn="l" pos="7470720"/>
                <a:tab algn="l" pos="7910640"/>
                <a:tab algn="l" pos="8350200"/>
                <a:tab algn="l" pos="8790120"/>
                <a:tab algn="l" pos="8794800"/>
                <a:tab algn="l" pos="9234360"/>
                <a:tab algn="l" pos="9674280"/>
                <a:tab algn="l" pos="10113840"/>
                <a:tab algn="l" pos="10553760"/>
              </a:tabLst>
            </a:pPr>
            <a:fld id="{61FE40D6-0A80-40D6-9D64-534C0E740A9E}" type="slidenum">
              <a:rPr b="0" lang="en-GB" sz="1300" spc="-1" strike="noStrike">
                <a:solidFill>
                  <a:srgbClr val="000000"/>
                </a:solidFill>
                <a:latin typeface="Bitstream Vera Serif"/>
              </a:rPr>
              <a:t>&lt;number&gt;</a:t>
            </a:fld>
            <a:endParaRPr b="0" i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40280" cy="370512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77880" y="4692240"/>
            <a:ext cx="542592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838680" y="9385200"/>
            <a:ext cx="29401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8000"/>
              </a:lnSpc>
              <a:tabLst>
                <a:tab algn="l" pos="0"/>
                <a:tab algn="l" pos="439560"/>
                <a:tab algn="l" pos="879480"/>
                <a:tab algn="l" pos="1317600"/>
                <a:tab algn="l" pos="1757520"/>
                <a:tab algn="l" pos="2197080"/>
                <a:tab algn="l" pos="2637000"/>
                <a:tab algn="l" pos="3076560"/>
                <a:tab algn="l" pos="3516480"/>
                <a:tab algn="l" pos="3954600"/>
                <a:tab algn="l" pos="4394160"/>
                <a:tab algn="l" pos="4834080"/>
                <a:tab algn="l" pos="5273640"/>
                <a:tab algn="l" pos="5713560"/>
                <a:tab algn="l" pos="6153120"/>
                <a:tab algn="l" pos="6591240"/>
                <a:tab algn="l" pos="7031160"/>
                <a:tab algn="l" pos="7470720"/>
                <a:tab algn="l" pos="7910640"/>
                <a:tab algn="l" pos="8350200"/>
                <a:tab algn="l" pos="8790120"/>
                <a:tab algn="l" pos="8794800"/>
                <a:tab algn="l" pos="9234360"/>
                <a:tab algn="l" pos="9674280"/>
                <a:tab algn="l" pos="10113840"/>
                <a:tab algn="l" pos="10553760"/>
              </a:tabLst>
            </a:pPr>
            <a:fld id="{01404B80-5153-4BAF-84CA-985DE8827020}" type="slidenum">
              <a:rPr b="0" lang="en-GB" sz="1300" spc="-1" strike="noStrike">
                <a:solidFill>
                  <a:srgbClr val="000000"/>
                </a:solidFill>
                <a:latin typeface="Bitstream Vera Serif"/>
              </a:rPr>
              <a:t>&lt;number&gt;</a:t>
            </a:fld>
            <a:endParaRPr b="0" i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40280" cy="370512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77880" y="4692240"/>
            <a:ext cx="542592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3838680" y="9385200"/>
            <a:ext cx="29401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8000"/>
              </a:lnSpc>
              <a:tabLst>
                <a:tab algn="l" pos="0"/>
                <a:tab algn="l" pos="439560"/>
                <a:tab algn="l" pos="879480"/>
                <a:tab algn="l" pos="1317600"/>
                <a:tab algn="l" pos="1757520"/>
                <a:tab algn="l" pos="2197080"/>
                <a:tab algn="l" pos="2637000"/>
                <a:tab algn="l" pos="3076560"/>
                <a:tab algn="l" pos="3516480"/>
                <a:tab algn="l" pos="3954600"/>
                <a:tab algn="l" pos="4394160"/>
                <a:tab algn="l" pos="4834080"/>
                <a:tab algn="l" pos="5273640"/>
                <a:tab algn="l" pos="5713560"/>
                <a:tab algn="l" pos="6153120"/>
                <a:tab algn="l" pos="6591240"/>
                <a:tab algn="l" pos="7031160"/>
                <a:tab algn="l" pos="7470720"/>
                <a:tab algn="l" pos="7910640"/>
                <a:tab algn="l" pos="8350200"/>
                <a:tab algn="l" pos="8790120"/>
                <a:tab algn="l" pos="8794800"/>
                <a:tab algn="l" pos="9234360"/>
                <a:tab algn="l" pos="9674280"/>
                <a:tab algn="l" pos="10113840"/>
                <a:tab algn="l" pos="10553760"/>
              </a:tabLst>
            </a:pPr>
            <a:fld id="{56C5B6C2-C99F-45A7-909F-F799297EA318}" type="slidenum">
              <a:rPr b="0" lang="en-GB" sz="1300" spc="-1" strike="noStrike">
                <a:solidFill>
                  <a:srgbClr val="000000"/>
                </a:solidFill>
                <a:latin typeface="Bitstream Vera Serif"/>
              </a:rPr>
              <a:t>&lt;number&gt;</a:t>
            </a:fld>
            <a:endParaRPr b="0" i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40280" cy="370512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77880" y="4692240"/>
            <a:ext cx="542592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FB612A-0B15-4844-98BA-DA4AB9682B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182880" anchor="ctr" anchorCtr="1">
            <a:noAutofit/>
          </a:bodyPr>
          <a:p>
            <a:pPr indent="0" algn="ctr">
              <a:lnSpc>
                <a:spcPct val="177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1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99"/>
              </a:spcAft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99"/>
              </a:spcAft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978778-CC99-4C0D-8352-1A5308EFB1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182880" anchor="ctr" anchorCtr="1">
            <a:noAutofit/>
          </a:bodyPr>
          <a:p>
            <a:pPr indent="0" algn="ctr">
              <a:lnSpc>
                <a:spcPct val="177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1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99"/>
              </a:spcAft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99"/>
              </a:spcAft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99"/>
              </a:spcAft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99"/>
              </a:spcAft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61908E-E5A2-4720-A6CC-FAC1D7CA94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182880" anchor="ctr" anchorCtr="1">
            <a:noAutofit/>
          </a:bodyPr>
          <a:p>
            <a:pPr indent="0" algn="ctr">
              <a:lnSpc>
                <a:spcPct val="177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1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99"/>
              </a:spcAft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99"/>
              </a:spcAft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99"/>
              </a:spcAft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99"/>
              </a:spcAft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820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99"/>
              </a:spcAft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1956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99"/>
              </a:spcAft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A3468F-BDB1-4AD9-8784-1AAF1FE93C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182880" anchor="ctr" anchorCtr="1">
            <a:noAutofit/>
          </a:bodyPr>
          <a:p>
            <a:pPr indent="0" algn="ctr">
              <a:lnSpc>
                <a:spcPct val="177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1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0080" indent="0" algn="ctr">
              <a:spcAft>
                <a:spcPts val="499"/>
              </a:spcAft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182880" anchor="ctr" anchorCtr="1">
            <a:noAutofit/>
          </a:bodyPr>
          <a:p>
            <a:pPr indent="0" algn="ctr">
              <a:lnSpc>
                <a:spcPct val="177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1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99"/>
              </a:spcAft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182880" anchor="ctr" anchorCtr="1">
            <a:noAutofit/>
          </a:bodyPr>
          <a:p>
            <a:pPr indent="0" algn="ctr">
              <a:lnSpc>
                <a:spcPct val="177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1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99"/>
              </a:spcAft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99"/>
              </a:spcAft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182880" anchor="ctr" anchorCtr="1">
            <a:noAutofit/>
          </a:bodyPr>
          <a:p>
            <a:pPr indent="0" algn="ctr">
              <a:lnSpc>
                <a:spcPct val="177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1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38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0080" algn="ctr">
              <a:spcAft>
                <a:spcPts val="499"/>
              </a:spcAft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182880" anchor="ctr" anchorCtr="1">
            <a:noAutofit/>
          </a:bodyPr>
          <a:p>
            <a:pPr indent="0" algn="ctr">
              <a:lnSpc>
                <a:spcPct val="177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1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99"/>
              </a:spcAft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99"/>
              </a:spcAft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99"/>
              </a:spcAft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182880" anchor="ctr" anchorCtr="1">
            <a:noAutofit/>
          </a:bodyPr>
          <a:p>
            <a:pPr indent="0" algn="ctr">
              <a:lnSpc>
                <a:spcPct val="177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1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0080" indent="0" algn="ctr">
              <a:spcAft>
                <a:spcPts val="499"/>
              </a:spcAft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8F35AE-269B-4642-A2DD-473C9CC5C2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182880" anchor="ctr" anchorCtr="1">
            <a:noAutofit/>
          </a:bodyPr>
          <a:p>
            <a:pPr indent="0" algn="ctr">
              <a:lnSpc>
                <a:spcPct val="177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1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99"/>
              </a:spcAft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99"/>
              </a:spcAft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99"/>
              </a:spcAft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182880" anchor="ctr" anchorCtr="1">
            <a:noAutofit/>
          </a:bodyPr>
          <a:p>
            <a:pPr indent="0" algn="ctr">
              <a:lnSpc>
                <a:spcPct val="177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1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99"/>
              </a:spcAft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99"/>
              </a:spcAft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99"/>
              </a:spcAft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182880" anchor="ctr" anchorCtr="1">
            <a:noAutofit/>
          </a:bodyPr>
          <a:p>
            <a:pPr indent="0" algn="ctr">
              <a:lnSpc>
                <a:spcPct val="177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1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99"/>
              </a:spcAft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99"/>
              </a:spcAft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182880" anchor="ctr" anchorCtr="1">
            <a:noAutofit/>
          </a:bodyPr>
          <a:p>
            <a:pPr indent="0" algn="ctr">
              <a:lnSpc>
                <a:spcPct val="177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1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99"/>
              </a:spcAft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99"/>
              </a:spcAft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99"/>
              </a:spcAft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99"/>
              </a:spcAft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182880" anchor="ctr" anchorCtr="1">
            <a:noAutofit/>
          </a:bodyPr>
          <a:p>
            <a:pPr indent="0" algn="ctr">
              <a:lnSpc>
                <a:spcPct val="177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1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99"/>
              </a:spcAft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99"/>
              </a:spcAft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99"/>
              </a:spcAft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99"/>
              </a:spcAft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820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99"/>
              </a:spcAft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1956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99"/>
              </a:spcAft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182880" anchor="ctr" anchorCtr="1">
            <a:noAutofit/>
          </a:bodyPr>
          <a:p>
            <a:pPr indent="0" algn="ctr">
              <a:lnSpc>
                <a:spcPct val="177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1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99"/>
              </a:spcAft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D1D21F-C6AC-4172-82DA-7A08681C9A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182880" anchor="ctr" anchorCtr="1">
            <a:noAutofit/>
          </a:bodyPr>
          <a:p>
            <a:pPr indent="0" algn="ctr">
              <a:lnSpc>
                <a:spcPct val="177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1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99"/>
              </a:spcAft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99"/>
              </a:spcAft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867A11-884D-4ACC-A1F6-77BAEFD5CF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182880" anchor="ctr" anchorCtr="1">
            <a:noAutofit/>
          </a:bodyPr>
          <a:p>
            <a:pPr indent="0" algn="ctr">
              <a:lnSpc>
                <a:spcPct val="177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1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BF7BBE-2B64-4FD1-BC22-114CB9A20A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38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0080" algn="ctr">
              <a:spcAft>
                <a:spcPts val="499"/>
              </a:spcAft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6B8DBB-427E-4ABF-B5D8-3CFA55DD20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182880" anchor="ctr" anchorCtr="1">
            <a:noAutofit/>
          </a:bodyPr>
          <a:p>
            <a:pPr indent="0" algn="ctr">
              <a:lnSpc>
                <a:spcPct val="177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1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99"/>
              </a:spcAft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99"/>
              </a:spcAft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99"/>
              </a:spcAft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EA41B3-0920-4B59-983F-29DCA201EB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182880" anchor="ctr" anchorCtr="1">
            <a:noAutofit/>
          </a:bodyPr>
          <a:p>
            <a:pPr indent="0" algn="ctr">
              <a:lnSpc>
                <a:spcPct val="177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1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99"/>
              </a:spcAft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99"/>
              </a:spcAft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99"/>
              </a:spcAft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3C7452-79EB-443A-96DB-56430CAFA6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182880" anchor="ctr" anchorCtr="1">
            <a:noAutofit/>
          </a:bodyPr>
          <a:p>
            <a:pPr indent="0" algn="ctr">
              <a:lnSpc>
                <a:spcPct val="177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1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99"/>
              </a:spcAft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99"/>
              </a:spcAft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99"/>
              </a:spcAft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2D6A50-9752-4DAD-9205-BBEEEC22BD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01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txBody>
          <a:bodyPr lIns="0" rIns="0" tIns="0" bIns="182880" anchor="ctr" anchorCtr="1">
            <a:noAutofit/>
          </a:bodyPr>
          <a:p>
            <a:pPr indent="0" algn="ctr">
              <a:lnSpc>
                <a:spcPct val="177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71600" indent="-371520"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93880" indent="-371520"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51080" indent="-371520"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43120" indent="-371520">
              <a:spcAft>
                <a:spcPts val="499"/>
              </a:spcAft>
              <a:buSzPct val="100000"/>
              <a:buBlip>
                <a:blip r:embed="rId5"/>
              </a:buBlip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33720" indent="-371520">
              <a:spcAft>
                <a:spcPts val="499"/>
              </a:spcAft>
              <a:buSzPct val="100000"/>
              <a:buBlip>
                <a:blip r:embed="rId6"/>
              </a:buBlip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133720" indent="-371520">
              <a:spcAft>
                <a:spcPts val="499"/>
              </a:spcAft>
              <a:buSzPct val="100000"/>
              <a:buBlip>
                <a:blip r:embed="rId7"/>
              </a:buBlip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133720" indent="-371520">
              <a:spcAft>
                <a:spcPts val="499"/>
              </a:spcAft>
              <a:buSzPct val="100000"/>
              <a:buBlip>
                <a:blip r:embed="rId8"/>
              </a:buBlip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20520" y="6624720"/>
            <a:ext cx="7143840" cy="203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lstStyle>
            <a:lvl1pPr indent="0">
              <a:lnSpc>
                <a:spcPct val="13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i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3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Dariusz Miskowiec, Particle correlations in ALICE, Physics at the LHC, Hamburg, 10-Jun-2010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816320" y="6597360"/>
            <a:ext cx="1219320" cy="26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3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i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3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589E619-35E3-46EB-BF68-51CE1876221E}" type="slidenum">
              <a:rPr b="0" i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82760" y="2679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ymbol zastępczy stopki 3"/>
          <p:cNvSpPr/>
          <p:nvPr/>
        </p:nvSpPr>
        <p:spPr>
          <a:xfrm>
            <a:off x="20520" y="6624720"/>
            <a:ext cx="714384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t">
            <a:noAutofit/>
          </a:bodyPr>
          <a:p>
            <a:pPr>
              <a:lnSpc>
                <a:spcPct val="13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8701200"/>
                <a:tab algn="l" pos="9115560"/>
                <a:tab algn="l" pos="9529920"/>
                <a:tab algn="l" pos="9944280"/>
                <a:tab algn="l" pos="10358280"/>
                <a:tab algn="l" pos="1077264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Dariusz Miskowiec, Particle correlations in ALICE, Physics at the LHC, Hamburg, 10-Jun-2010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ymbol zastępczy numeru slajdu 4"/>
          <p:cNvSpPr/>
          <p:nvPr/>
        </p:nvSpPr>
        <p:spPr>
          <a:xfrm>
            <a:off x="7816680" y="6597720"/>
            <a:ext cx="1219320" cy="26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3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8701200"/>
                <a:tab algn="l" pos="9115560"/>
                <a:tab algn="l" pos="9529920"/>
                <a:tab algn="l" pos="9944280"/>
                <a:tab algn="l" pos="10358280"/>
                <a:tab algn="l" pos="10772640"/>
              </a:tabLst>
            </a:pPr>
            <a:fld id="{72862300-C29D-4CC3-B02A-AFEE6035BDD8}" type="slidenum">
              <a:rPr b="0" i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-4680" y="-25920"/>
            <a:ext cx="9144000" cy="83052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txBody>
          <a:bodyPr lIns="0" rIns="0" tIns="0" bIns="182880" anchor="ctr" anchorCtr="1">
            <a:noAutofit/>
          </a:bodyPr>
          <a:p>
            <a:pPr indent="0" algn="ctr">
              <a:lnSpc>
                <a:spcPct val="17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First results on particle correlations from ALICE</a:t>
            </a:r>
            <a:endParaRPr b="1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Text Box 13"/>
          <p:cNvSpPr/>
          <p:nvPr/>
        </p:nvSpPr>
        <p:spPr>
          <a:xfrm>
            <a:off x="1403280" y="1023840"/>
            <a:ext cx="47815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Dariusz Mi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ś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kowiec, 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SI Darmstadt and EMMI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for the ALICE Collaboration 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4" descr="alice_logo"/>
          <p:cNvPicPr/>
          <p:nvPr/>
        </p:nvPicPr>
        <p:blipFill>
          <a:blip r:embed="rId1"/>
          <a:stretch/>
        </p:blipFill>
        <p:spPr>
          <a:xfrm>
            <a:off x="6068880" y="824040"/>
            <a:ext cx="1868760" cy="181584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7"/>
          <p:cNvSpPr/>
          <p:nvPr/>
        </p:nvSpPr>
        <p:spPr>
          <a:xfrm>
            <a:off x="2325600" y="4005360"/>
            <a:ext cx="4665600" cy="182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71600" indent="-371520"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y two-pion correlations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71600" indent="-371520"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wo-pion correlations at 900 GeV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71600" indent="-371520"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irst look at 7 TeV data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71600" indent="-371520">
              <a:spcAft>
                <a:spcPts val="499"/>
              </a:spcAft>
              <a:buSzPct val="100000"/>
              <a:buBlip>
                <a:blip r:embed="rId5"/>
              </a:buBlip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ry harder: high-p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T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correlations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71600" indent="-371520">
              <a:spcAft>
                <a:spcPts val="499"/>
              </a:spcAft>
              <a:buSzPct val="100000"/>
              <a:buBlip>
                <a:blip r:embed="rId6"/>
              </a:buBlip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ummary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Symbol zastępczy stopki 3"/>
          <p:cNvSpPr/>
          <p:nvPr/>
        </p:nvSpPr>
        <p:spPr>
          <a:xfrm>
            <a:off x="20520" y="6624720"/>
            <a:ext cx="714384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t">
            <a:noAutofit/>
          </a:bodyPr>
          <a:p>
            <a:pPr>
              <a:lnSpc>
                <a:spcPct val="13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8701200"/>
                <a:tab algn="l" pos="9115560"/>
                <a:tab algn="l" pos="9529920"/>
                <a:tab algn="l" pos="9944280"/>
                <a:tab algn="l" pos="10358280"/>
                <a:tab algn="l" pos="1077264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Dariusz Miskowiec, Particle correlations in ALICE, Physics at the LHC, Hamburg, 10-Jun-2010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Symbol zastępczy numeru slajdu 4"/>
          <p:cNvSpPr/>
          <p:nvPr/>
        </p:nvSpPr>
        <p:spPr>
          <a:xfrm>
            <a:off x="7816680" y="6597720"/>
            <a:ext cx="1219320" cy="26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3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8701200"/>
                <a:tab algn="l" pos="9115560"/>
                <a:tab algn="l" pos="9529920"/>
                <a:tab algn="l" pos="9944280"/>
                <a:tab algn="l" pos="10358280"/>
                <a:tab algn="l" pos="10772640"/>
              </a:tabLst>
            </a:pPr>
            <a:fld id="{2DE620F9-8B63-44B5-B582-9931E991F8D9}" type="slidenum">
              <a:rPr b="0" i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-4680" y="-25920"/>
            <a:ext cx="9144000" cy="83052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txBody>
          <a:bodyPr lIns="0" rIns="0" tIns="0" bIns="182880" anchor="ctr" anchorCtr="1">
            <a:noAutofit/>
          </a:bodyPr>
          <a:p>
            <a:pPr indent="0" algn="ctr">
              <a:lnSpc>
                <a:spcPct val="17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Multiplicity and transverse momentum dependence</a:t>
            </a:r>
            <a:endParaRPr b="1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4" name="Picture 7" descr="fig1phojet-logo"/>
          <p:cNvPicPr/>
          <p:nvPr/>
        </p:nvPicPr>
        <p:blipFill>
          <a:blip r:embed="rId1"/>
          <a:stretch/>
        </p:blipFill>
        <p:spPr>
          <a:xfrm>
            <a:off x="482760" y="1144440"/>
            <a:ext cx="3774960" cy="507852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8" descr="fig2phojet-logo"/>
          <p:cNvPicPr/>
          <p:nvPr/>
        </p:nvPicPr>
        <p:blipFill>
          <a:blip r:embed="rId2"/>
          <a:stretch/>
        </p:blipFill>
        <p:spPr>
          <a:xfrm>
            <a:off x="4938840" y="1144440"/>
            <a:ext cx="3774960" cy="507852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9"/>
          <p:cNvSpPr/>
          <p:nvPr/>
        </p:nvSpPr>
        <p:spPr>
          <a:xfrm>
            <a:off x="1421640" y="798480"/>
            <a:ext cx="639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dentical pions                                                unlike-sign pions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6"/>
          <p:cNvSpPr/>
          <p:nvPr/>
        </p:nvSpPr>
        <p:spPr>
          <a:xfrm>
            <a:off x="2324160" y="6253200"/>
            <a:ext cx="4494240" cy="3884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3080" rIns="73080" tIns="18360" bIns="64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  <a:ea typeface="ＭＳ Ｐゴシック"/>
              </a:rPr>
              <a:t>baseline has to be treated properly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Symbol zastępczy stopki 3"/>
          <p:cNvSpPr/>
          <p:nvPr/>
        </p:nvSpPr>
        <p:spPr>
          <a:xfrm>
            <a:off x="20520" y="6624720"/>
            <a:ext cx="714384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t">
            <a:noAutofit/>
          </a:bodyPr>
          <a:p>
            <a:pPr>
              <a:lnSpc>
                <a:spcPct val="13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8701200"/>
                <a:tab algn="l" pos="9115560"/>
                <a:tab algn="l" pos="9529920"/>
                <a:tab algn="l" pos="9944280"/>
                <a:tab algn="l" pos="10358280"/>
                <a:tab algn="l" pos="1077264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Dariusz Miskowiec, Particle correlations in ALICE, Physics at the LHC, Hamburg, 10-Jun-2010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Symbol zastępczy numeru slajdu 4"/>
          <p:cNvSpPr/>
          <p:nvPr/>
        </p:nvSpPr>
        <p:spPr>
          <a:xfrm>
            <a:off x="7816680" y="6597720"/>
            <a:ext cx="1219320" cy="26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3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8701200"/>
                <a:tab algn="l" pos="9115560"/>
                <a:tab algn="l" pos="9529920"/>
                <a:tab algn="l" pos="9944280"/>
                <a:tab algn="l" pos="10358280"/>
                <a:tab algn="l" pos="10772640"/>
              </a:tabLst>
            </a:pPr>
            <a:fld id="{A37D1B65-5903-4C0F-83AB-A5C21320B7F4}" type="slidenum">
              <a:rPr b="0" i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-4680" y="-25920"/>
            <a:ext cx="9144000" cy="83052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txBody>
          <a:bodyPr lIns="0" rIns="0" tIns="0" bIns="182880" anchor="ctr" anchorCtr="1">
            <a:noAutofit/>
          </a:bodyPr>
          <a:p>
            <a:pPr indent="0" algn="ctr">
              <a:lnSpc>
                <a:spcPct val="17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Multiplicity dependence</a:t>
            </a:r>
            <a:endParaRPr b="1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Text Box 6"/>
          <p:cNvSpPr/>
          <p:nvPr/>
        </p:nvSpPr>
        <p:spPr>
          <a:xfrm>
            <a:off x="5321160" y="5108400"/>
            <a:ext cx="3456000" cy="130320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3080" rIns="73080" tIns="18360" bIns="64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  <a:ea typeface="ＭＳ Ｐゴシック"/>
              </a:rPr>
              <a:t>visible dependence in pp </a:t>
            </a:r>
            <a:r>
              <a:rPr b="1" i="1" lang="en-US" sz="2000" spc="-1" strike="noStrike">
                <a:solidFill>
                  <a:srgbClr val="cc0000"/>
                </a:solidFill>
                <a:latin typeface="Wingdings"/>
                <a:ea typeface="Wingdings"/>
              </a:rPr>
              <a:t></a:t>
            </a:r>
            <a:r>
              <a:rPr b="1" i="1" lang="en-US" sz="2000" spc="-1" strike="noStrike">
                <a:solidFill>
                  <a:srgbClr val="cc0000"/>
                </a:solidFill>
                <a:latin typeface="Arial"/>
                <a:ea typeface="ＭＳ Ｐゴシック"/>
              </a:rPr>
              <a:t>   HBT radii depend on multiplicity rather than on  collision geometry 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9" descr="expa"/>
          <p:cNvPicPr/>
          <p:nvPr/>
        </p:nvPicPr>
        <p:blipFill>
          <a:blip r:embed="rId1"/>
          <a:stretch/>
        </p:blipFill>
        <p:spPr>
          <a:xfrm>
            <a:off x="5897520" y="1413000"/>
            <a:ext cx="3052800" cy="3686040"/>
          </a:xfrm>
          <a:prstGeom prst="rect">
            <a:avLst/>
          </a:prstGeom>
          <a:ln w="0">
            <a:noFill/>
          </a:ln>
        </p:spPr>
      </p:pic>
      <p:sp>
        <p:nvSpPr>
          <p:cNvPr id="203" name="Text Box 10"/>
          <p:cNvSpPr/>
          <p:nvPr/>
        </p:nvSpPr>
        <p:spPr>
          <a:xfrm>
            <a:off x="6064200" y="816120"/>
            <a:ext cx="3038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or comp.: nuclear collisions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M. Lisa, Ann. Rev. Nucl. Part. Sci. 55, 357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11" descr="fig4logo"/>
          <p:cNvPicPr/>
          <p:nvPr/>
        </p:nvPicPr>
        <p:blipFill>
          <a:blip r:embed="rId2"/>
          <a:stretch/>
        </p:blipFill>
        <p:spPr>
          <a:xfrm>
            <a:off x="55440" y="952560"/>
            <a:ext cx="4516560" cy="531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Symbol zastępczy stopki 3"/>
          <p:cNvSpPr/>
          <p:nvPr/>
        </p:nvSpPr>
        <p:spPr>
          <a:xfrm>
            <a:off x="20520" y="6624720"/>
            <a:ext cx="714384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t">
            <a:noAutofit/>
          </a:bodyPr>
          <a:p>
            <a:pPr>
              <a:lnSpc>
                <a:spcPct val="13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8701200"/>
                <a:tab algn="l" pos="9115560"/>
                <a:tab algn="l" pos="9529920"/>
                <a:tab algn="l" pos="9944280"/>
                <a:tab algn="l" pos="10358280"/>
                <a:tab algn="l" pos="1077264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Dariusz Miskowiec, Particle correlations in ALICE, Physics at the LHC, Hamburg, 10-Jun-2010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Symbol zastępczy numeru slajdu 4"/>
          <p:cNvSpPr/>
          <p:nvPr/>
        </p:nvSpPr>
        <p:spPr>
          <a:xfrm>
            <a:off x="7816680" y="6597720"/>
            <a:ext cx="1219320" cy="26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3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8701200"/>
                <a:tab algn="l" pos="9115560"/>
                <a:tab algn="l" pos="9529920"/>
                <a:tab algn="l" pos="9944280"/>
                <a:tab algn="l" pos="10358280"/>
                <a:tab algn="l" pos="10772640"/>
              </a:tabLst>
            </a:pPr>
            <a:fld id="{F90522B3-5287-4257-90AC-4B3E66847FB7}" type="slidenum">
              <a:rPr b="0" i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-4680" y="-25920"/>
            <a:ext cx="9144000" cy="83052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txBody>
          <a:bodyPr lIns="0" rIns="0" tIns="0" bIns="182880" anchor="ctr" anchorCtr="1">
            <a:noAutofit/>
          </a:bodyPr>
          <a:p>
            <a:pPr indent="0" algn="ctr">
              <a:lnSpc>
                <a:spcPct val="17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Transverse momentum dependence</a:t>
            </a:r>
            <a:endParaRPr b="1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Text Box 6"/>
          <p:cNvSpPr/>
          <p:nvPr/>
        </p:nvSpPr>
        <p:spPr>
          <a:xfrm>
            <a:off x="5205240" y="1239840"/>
            <a:ext cx="3456000" cy="69336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3080" rIns="73080" tIns="18360" bIns="64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  <a:ea typeface="ＭＳ Ｐゴシック"/>
              </a:rPr>
              <a:t>no significant dependence on transverse momentum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11" descr="c10"/>
          <p:cNvPicPr/>
          <p:nvPr/>
        </p:nvPicPr>
        <p:blipFill>
          <a:blip r:embed="rId1"/>
          <a:stretch/>
        </p:blipFill>
        <p:spPr>
          <a:xfrm>
            <a:off x="5897520" y="2795760"/>
            <a:ext cx="2840040" cy="3514680"/>
          </a:xfrm>
          <a:prstGeom prst="rect">
            <a:avLst/>
          </a:prstGeom>
          <a:ln w="0">
            <a:noFill/>
          </a:ln>
        </p:spPr>
      </p:pic>
      <p:sp>
        <p:nvSpPr>
          <p:cNvPr id="210" name="Text Box 12"/>
          <p:cNvSpPr/>
          <p:nvPr/>
        </p:nvSpPr>
        <p:spPr>
          <a:xfrm>
            <a:off x="6509880" y="2327400"/>
            <a:ext cx="205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or comparison: in 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uclear collisions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13" descr="fig6logo"/>
          <p:cNvPicPr/>
          <p:nvPr/>
        </p:nvPicPr>
        <p:blipFill>
          <a:blip r:embed="rId2"/>
          <a:stretch/>
        </p:blipFill>
        <p:spPr>
          <a:xfrm>
            <a:off x="55440" y="922320"/>
            <a:ext cx="4516560" cy="555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ymbol zastępczy stopki 3"/>
          <p:cNvSpPr/>
          <p:nvPr/>
        </p:nvSpPr>
        <p:spPr>
          <a:xfrm>
            <a:off x="20520" y="6624720"/>
            <a:ext cx="714384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t">
            <a:noAutofit/>
          </a:bodyPr>
          <a:p>
            <a:pPr>
              <a:lnSpc>
                <a:spcPct val="13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8701200"/>
                <a:tab algn="l" pos="9115560"/>
                <a:tab algn="l" pos="9529920"/>
                <a:tab algn="l" pos="9944280"/>
                <a:tab algn="l" pos="10358280"/>
                <a:tab algn="l" pos="1077264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Dariusz Miskowiec, Particle correlations in ALICE, Physics at the LHC, Hamburg, 10-Jun-2010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Symbol zastępczy numeru slajdu 4"/>
          <p:cNvSpPr/>
          <p:nvPr/>
        </p:nvSpPr>
        <p:spPr>
          <a:xfrm>
            <a:off x="7816680" y="6597720"/>
            <a:ext cx="1219320" cy="26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3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8701200"/>
                <a:tab algn="l" pos="9115560"/>
                <a:tab algn="l" pos="9529920"/>
                <a:tab algn="l" pos="9944280"/>
                <a:tab algn="l" pos="10358280"/>
                <a:tab algn="l" pos="10772640"/>
              </a:tabLst>
            </a:pPr>
            <a:fld id="{EDD49949-CD76-4AC9-A06F-D8E54614CA1C}" type="slidenum">
              <a:rPr b="0" i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-4680" y="-25920"/>
            <a:ext cx="9144000" cy="83052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txBody>
          <a:bodyPr lIns="0" rIns="0" tIns="0" bIns="182880" anchor="ctr" anchorCtr="1">
            <a:noAutofit/>
          </a:bodyPr>
          <a:p>
            <a:pPr indent="0" algn="ctr">
              <a:lnSpc>
                <a:spcPct val="17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Dependence on the baseline assumption</a:t>
            </a:r>
            <a:endParaRPr b="1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Text Box 6"/>
          <p:cNvSpPr/>
          <p:nvPr/>
        </p:nvSpPr>
        <p:spPr>
          <a:xfrm>
            <a:off x="4917960" y="4836960"/>
            <a:ext cx="3859200" cy="99828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3080" rIns="73080" tIns="18360" bIns="64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  <a:ea typeface="ＭＳ Ｐゴシック"/>
              </a:rPr>
              <a:t>but: transverse momentum dependence is sensitive to the baseline shape assumption 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9" descr="fig5logo"/>
          <p:cNvPicPr/>
          <p:nvPr/>
        </p:nvPicPr>
        <p:blipFill>
          <a:blip r:embed="rId1"/>
          <a:stretch/>
        </p:blipFill>
        <p:spPr>
          <a:xfrm>
            <a:off x="55440" y="922320"/>
            <a:ext cx="4516560" cy="555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Symbol zastępczy stopki 3"/>
          <p:cNvSpPr/>
          <p:nvPr/>
        </p:nvSpPr>
        <p:spPr>
          <a:xfrm>
            <a:off x="20520" y="6624720"/>
            <a:ext cx="714384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t">
            <a:noAutofit/>
          </a:bodyPr>
          <a:p>
            <a:pPr>
              <a:lnSpc>
                <a:spcPct val="13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8701200"/>
                <a:tab algn="l" pos="9115560"/>
                <a:tab algn="l" pos="9529920"/>
                <a:tab algn="l" pos="9944280"/>
                <a:tab algn="l" pos="10358280"/>
                <a:tab algn="l" pos="1077264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Dariusz Miskowiec, Particle correlations in ALICE, Physics at the LHC, Hamburg, 10-Jun-2010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Symbol zastępczy numeru slajdu 4"/>
          <p:cNvSpPr/>
          <p:nvPr/>
        </p:nvSpPr>
        <p:spPr>
          <a:xfrm>
            <a:off x="7816680" y="6597720"/>
            <a:ext cx="1219320" cy="26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3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8701200"/>
                <a:tab algn="l" pos="9115560"/>
                <a:tab algn="l" pos="9529920"/>
                <a:tab algn="l" pos="9944280"/>
                <a:tab algn="l" pos="10358280"/>
                <a:tab algn="l" pos="10772640"/>
              </a:tabLst>
            </a:pPr>
            <a:fld id="{7FEBF979-1B7E-4804-B13C-FB20B59F9749}" type="slidenum">
              <a:rPr b="0" i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4" descr="hase"/>
          <p:cNvPicPr/>
          <p:nvPr/>
        </p:nvPicPr>
        <p:blipFill>
          <a:blip r:embed="rId1"/>
          <a:srcRect l="0" t="0" r="0" b="20400"/>
          <a:stretch/>
        </p:blipFill>
        <p:spPr>
          <a:xfrm>
            <a:off x="712800" y="146160"/>
            <a:ext cx="6026040" cy="6394320"/>
          </a:xfrm>
          <a:prstGeom prst="rect">
            <a:avLst/>
          </a:prstGeom>
          <a:ln w="0">
            <a:noFill/>
          </a:ln>
        </p:spPr>
      </p:pic>
      <p:sp>
        <p:nvSpPr>
          <p:cNvPr id="220" name="Text Box 2"/>
          <p:cNvSpPr/>
          <p:nvPr/>
        </p:nvSpPr>
        <p:spPr>
          <a:xfrm rot="18958200">
            <a:off x="4404600" y="1477440"/>
            <a:ext cx="3568680" cy="1008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8000"/>
                </a:solidFill>
                <a:latin typeface="Arial"/>
              </a:rPr>
              <a:t>pp at sqrt(s) = 7 TeV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8000"/>
                </a:solidFill>
                <a:latin typeface="Arial"/>
              </a:rPr>
              <a:t>180 M minimum bias events 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8000"/>
                </a:solidFill>
                <a:latin typeface="Arial"/>
              </a:rPr>
              <a:t>  </a:t>
            </a:r>
            <a:r>
              <a:rPr b="1" i="1" lang="en-US" sz="2000" spc="-1" strike="noStrike">
                <a:solidFill>
                  <a:srgbClr val="008000"/>
                </a:solidFill>
                <a:latin typeface="Arial"/>
              </a:rPr>
              <a:t>from March 31 till now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5" descr="hase"/>
          <p:cNvPicPr/>
          <p:nvPr/>
        </p:nvPicPr>
        <p:blipFill>
          <a:blip r:embed="rId2"/>
          <a:srcRect l="64006" t="38404" r="3200" b="46804"/>
          <a:stretch/>
        </p:blipFill>
        <p:spPr>
          <a:xfrm>
            <a:off x="4556160" y="3255840"/>
            <a:ext cx="1979640" cy="1187640"/>
          </a:xfrm>
          <a:prstGeom prst="rect">
            <a:avLst/>
          </a:prstGeom>
          <a:ln w="0">
            <a:noFill/>
          </a:ln>
        </p:spPr>
      </p:pic>
      <p:sp>
        <p:nvSpPr>
          <p:cNvPr id="222" name="Text Box 6"/>
          <p:cNvSpPr/>
          <p:nvPr/>
        </p:nvSpPr>
        <p:spPr>
          <a:xfrm>
            <a:off x="6127920" y="5602320"/>
            <a:ext cx="2592360" cy="69336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3080" rIns="73080" tIns="18360" bIns="64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  <a:ea typeface="ＭＳ Ｐゴシック"/>
              </a:rPr>
              <a:t>120 M events used 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  <a:ea typeface="ＭＳ Ｐゴシック"/>
              </a:rPr>
              <a:t>for this talk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Symbol zastępczy stopki 3"/>
          <p:cNvSpPr/>
          <p:nvPr/>
        </p:nvSpPr>
        <p:spPr>
          <a:xfrm>
            <a:off x="20520" y="6624720"/>
            <a:ext cx="714384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t">
            <a:noAutofit/>
          </a:bodyPr>
          <a:p>
            <a:pPr>
              <a:lnSpc>
                <a:spcPct val="13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8701200"/>
                <a:tab algn="l" pos="9115560"/>
                <a:tab algn="l" pos="9529920"/>
                <a:tab algn="l" pos="9944280"/>
                <a:tab algn="l" pos="10358280"/>
                <a:tab algn="l" pos="1077264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Dariusz Miskowiec, Particle correlations in ALICE, Physics at the LHC, Hamburg, 10-Jun-2010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Symbol zastępczy numeru slajdu 4"/>
          <p:cNvSpPr/>
          <p:nvPr/>
        </p:nvSpPr>
        <p:spPr>
          <a:xfrm>
            <a:off x="7816680" y="6597720"/>
            <a:ext cx="1219320" cy="26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3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8701200"/>
                <a:tab algn="l" pos="9115560"/>
                <a:tab algn="l" pos="9529920"/>
                <a:tab algn="l" pos="9944280"/>
                <a:tab algn="l" pos="10358280"/>
                <a:tab algn="l" pos="10772640"/>
              </a:tabLst>
            </a:pPr>
            <a:fld id="{242703E4-F8CE-43A7-A3FB-0FF195F6B51E}" type="slidenum">
              <a:rPr b="0" i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7" descr="expa"/>
          <p:cNvPicPr/>
          <p:nvPr/>
        </p:nvPicPr>
        <p:blipFill>
          <a:blip r:embed="rId1"/>
          <a:srcRect l="0" t="28801" r="0" b="7200"/>
          <a:stretch/>
        </p:blipFill>
        <p:spPr>
          <a:xfrm>
            <a:off x="136440" y="682560"/>
            <a:ext cx="5997600" cy="5729400"/>
          </a:xfrm>
          <a:prstGeom prst="rect">
            <a:avLst/>
          </a:prstGeom>
          <a:ln w="0">
            <a:noFill/>
          </a:ln>
        </p:spPr>
      </p:pic>
      <p:sp>
        <p:nvSpPr>
          <p:cNvPr id="226" name="Text Box 8"/>
          <p:cNvSpPr/>
          <p:nvPr/>
        </p:nvSpPr>
        <p:spPr>
          <a:xfrm rot="1407000">
            <a:off x="3327840" y="1503720"/>
            <a:ext cx="2722680" cy="916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p at sqrt(s) = 900 GeV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 M minbias events 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on May 2-3, 2010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5897520" y="5330880"/>
            <a:ext cx="2362320" cy="69336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3080" rIns="73080" tIns="18360" bIns="64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  <a:ea typeface="ＭＳ Ｐゴシック"/>
              </a:rPr>
              <a:t>2.1 M events used 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  <a:ea typeface="ＭＳ Ｐゴシック"/>
              </a:rPr>
              <a:t>for this talk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Symbol zastępczy stopki 3"/>
          <p:cNvSpPr/>
          <p:nvPr/>
        </p:nvSpPr>
        <p:spPr>
          <a:xfrm>
            <a:off x="20520" y="6624720"/>
            <a:ext cx="714384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t">
            <a:noAutofit/>
          </a:bodyPr>
          <a:p>
            <a:pPr>
              <a:lnSpc>
                <a:spcPct val="13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8701200"/>
                <a:tab algn="l" pos="9115560"/>
                <a:tab algn="l" pos="9529920"/>
                <a:tab algn="l" pos="9944280"/>
                <a:tab algn="l" pos="10358280"/>
                <a:tab algn="l" pos="1077264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Dariusz Miskowiec, Particle correlations in ALICE, Physics at the LHC, Hamburg, 10-Jun-2010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Symbol zastępczy numeru slajdu 4"/>
          <p:cNvSpPr/>
          <p:nvPr/>
        </p:nvSpPr>
        <p:spPr>
          <a:xfrm>
            <a:off x="7816680" y="6597720"/>
            <a:ext cx="1219320" cy="26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3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8701200"/>
                <a:tab algn="l" pos="9115560"/>
                <a:tab algn="l" pos="9529920"/>
                <a:tab algn="l" pos="9944280"/>
                <a:tab algn="l" pos="10358280"/>
                <a:tab algn="l" pos="10772640"/>
              </a:tabLst>
            </a:pPr>
            <a:fld id="{24A2D085-12CC-4908-BBFB-0A37FEE333A8}" type="slidenum">
              <a:rPr b="0" i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8" descr="c"/>
          <p:cNvPicPr/>
          <p:nvPr/>
        </p:nvPicPr>
        <p:blipFill>
          <a:blip r:embed="rId1"/>
          <a:stretch/>
        </p:blipFill>
        <p:spPr>
          <a:xfrm>
            <a:off x="781200" y="1038240"/>
            <a:ext cx="7581600" cy="478152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-4680" y="-25920"/>
            <a:ext cx="9144000" cy="83052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txBody>
          <a:bodyPr lIns="0" rIns="0" tIns="0" bIns="182880" anchor="ctr" anchorCtr="1">
            <a:noAutofit/>
          </a:bodyPr>
          <a:p>
            <a:pPr indent="0" algn="ctr">
              <a:lnSpc>
                <a:spcPct val="17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7 TeV and new 900 GeV data</a:t>
            </a:r>
            <a:endParaRPr b="1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Text Box 6"/>
          <p:cNvSpPr/>
          <p:nvPr/>
        </p:nvSpPr>
        <p:spPr>
          <a:xfrm>
            <a:off x="4226040" y="5850000"/>
            <a:ext cx="3859200" cy="3884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3080" rIns="73080" tIns="18360" bIns="64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  <a:ea typeface="ＭＳ Ｐゴシック"/>
              </a:rPr>
              <a:t>high-q baseline flatter at 7 TeV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7"/>
          <p:cNvSpPr/>
          <p:nvPr/>
        </p:nvSpPr>
        <p:spPr>
          <a:xfrm>
            <a:off x="5096160" y="1028880"/>
            <a:ext cx="275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dentical pion correlations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9"/>
          <p:cNvSpPr/>
          <p:nvPr/>
        </p:nvSpPr>
        <p:spPr>
          <a:xfrm>
            <a:off x="927000" y="5726160"/>
            <a:ext cx="260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120 M events at 7 TeV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2.1 M events at 0.9 TeV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Symbol zastępczy stopki 3"/>
          <p:cNvSpPr/>
          <p:nvPr/>
        </p:nvSpPr>
        <p:spPr>
          <a:xfrm>
            <a:off x="20520" y="6624720"/>
            <a:ext cx="714384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t">
            <a:noAutofit/>
          </a:bodyPr>
          <a:p>
            <a:pPr>
              <a:lnSpc>
                <a:spcPct val="13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8701200"/>
                <a:tab algn="l" pos="9115560"/>
                <a:tab algn="l" pos="9529920"/>
                <a:tab algn="l" pos="9944280"/>
                <a:tab algn="l" pos="10358280"/>
                <a:tab algn="l" pos="1077264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Dariusz Miskowiec, Particle correlations in ALICE, Physics at the LHC, Hamburg, 10-Jun-2010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Symbol zastępczy numeru slajdu 4"/>
          <p:cNvSpPr/>
          <p:nvPr/>
        </p:nvSpPr>
        <p:spPr>
          <a:xfrm>
            <a:off x="7816680" y="6597720"/>
            <a:ext cx="1219320" cy="26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3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8701200"/>
                <a:tab algn="l" pos="9115560"/>
                <a:tab algn="l" pos="9529920"/>
                <a:tab algn="l" pos="9944280"/>
                <a:tab algn="l" pos="10358280"/>
                <a:tab algn="l" pos="10772640"/>
              </a:tabLst>
            </a:pPr>
            <a:fld id="{6AFD38C5-0DF4-4B8D-BE86-5C312F9CDDA1}" type="slidenum">
              <a:rPr b="0" i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13" descr="c"/>
          <p:cNvPicPr/>
          <p:nvPr/>
        </p:nvPicPr>
        <p:blipFill>
          <a:blip r:embed="rId1"/>
          <a:stretch/>
        </p:blipFill>
        <p:spPr>
          <a:xfrm>
            <a:off x="781200" y="1038240"/>
            <a:ext cx="7581600" cy="478152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-4680" y="-25920"/>
            <a:ext cx="9144000" cy="83052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txBody>
          <a:bodyPr lIns="0" rIns="0" tIns="0" bIns="182880" anchor="ctr" anchorCtr="1">
            <a:noAutofit/>
          </a:bodyPr>
          <a:p>
            <a:pPr indent="0" algn="ctr">
              <a:lnSpc>
                <a:spcPct val="17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800" spc="-1" strike="noStrike">
                <a:solidFill>
                  <a:srgbClr val="ffffff"/>
                </a:solidFill>
                <a:latin typeface="Arial"/>
                <a:ea typeface="Arial"/>
              </a:rPr>
              <a:t>π</a:t>
            </a:r>
            <a:r>
              <a:rPr b="1" i="1" lang="en-US" sz="2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+</a:t>
            </a:r>
            <a:r>
              <a:rPr b="1" i="1" lang="el-GR" sz="2800" spc="-1" strike="noStrike">
                <a:solidFill>
                  <a:srgbClr val="ffffff"/>
                </a:solidFill>
                <a:latin typeface="Arial"/>
                <a:ea typeface="Arial"/>
              </a:rPr>
              <a:t>π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i="1" lang="en-US" sz="2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-</a:t>
            </a:r>
            <a:r>
              <a:rPr b="1" i="1" lang="en-US" sz="20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correlations at 7 TeV</a:t>
            </a:r>
            <a:endParaRPr b="1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Text Box 6"/>
          <p:cNvSpPr/>
          <p:nvPr/>
        </p:nvSpPr>
        <p:spPr>
          <a:xfrm>
            <a:off x="2450520" y="3083040"/>
            <a:ext cx="494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7"/>
          <p:cNvSpPr/>
          <p:nvPr/>
        </p:nvSpPr>
        <p:spPr>
          <a:xfrm>
            <a:off x="3222000" y="41194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ρ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8"/>
          <p:cNvSpPr/>
          <p:nvPr/>
        </p:nvSpPr>
        <p:spPr>
          <a:xfrm>
            <a:off x="3861360" y="4387680"/>
            <a:ext cx="317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9"/>
          <p:cNvSpPr/>
          <p:nvPr/>
        </p:nvSpPr>
        <p:spPr>
          <a:xfrm>
            <a:off x="4477320" y="4408560"/>
            <a:ext cx="317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10"/>
          <p:cNvSpPr/>
          <p:nvPr/>
        </p:nvSpPr>
        <p:spPr>
          <a:xfrm>
            <a:off x="2211120" y="383220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ω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11"/>
          <p:cNvSpPr/>
          <p:nvPr/>
        </p:nvSpPr>
        <p:spPr>
          <a:xfrm>
            <a:off x="1752480" y="2565360"/>
            <a:ext cx="109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ulomb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6"/>
          <p:cNvSpPr/>
          <p:nvPr/>
        </p:nvSpPr>
        <p:spPr>
          <a:xfrm>
            <a:off x="3246480" y="3313080"/>
            <a:ext cx="3168720" cy="3884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3080" rIns="73080" tIns="18360" bIns="64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  <a:ea typeface="ＭＳ Ｐゴシック"/>
              </a:rPr>
              <a:t>rich resonance structure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6"/>
          <p:cNvSpPr/>
          <p:nvPr/>
        </p:nvSpPr>
        <p:spPr>
          <a:xfrm>
            <a:off x="365040" y="5850000"/>
            <a:ext cx="4091040" cy="69336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3080" rIns="73080" tIns="18360" bIns="64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  <a:ea typeface="ＭＳ Ｐゴシック"/>
              </a:rPr>
              <a:t>low-q baseline steeper at 7 TeV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Wingdings"/>
                <a:ea typeface="Wingdings"/>
              </a:rPr>
              <a:t></a:t>
            </a:r>
            <a:r>
              <a:rPr b="1" i="1" lang="en-US" sz="2000" spc="-1" strike="noStrike">
                <a:solidFill>
                  <a:srgbClr val="cc0000"/>
                </a:solidFill>
                <a:latin typeface="Arial"/>
                <a:ea typeface="ＭＳ Ｐゴシック"/>
              </a:rPr>
              <a:t> </a:t>
            </a:r>
            <a:r>
              <a:rPr b="1" i="1" lang="en-US" sz="2000" spc="-1" strike="noStrike">
                <a:solidFill>
                  <a:srgbClr val="cc0000"/>
                </a:solidFill>
                <a:latin typeface="Arial"/>
                <a:ea typeface="ＭＳ Ｐゴシック"/>
              </a:rPr>
              <a:t>origin: jets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6"/>
          <p:cNvSpPr/>
          <p:nvPr/>
        </p:nvSpPr>
        <p:spPr>
          <a:xfrm>
            <a:off x="4861080" y="5850000"/>
            <a:ext cx="3859200" cy="69336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3080" rIns="73080" tIns="18360" bIns="64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  <a:ea typeface="ＭＳ Ｐゴシック"/>
              </a:rPr>
              <a:t>high-q baseline flatter at 7 TeV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Wingdings"/>
                <a:ea typeface="Wingdings"/>
              </a:rPr>
              <a:t></a:t>
            </a:r>
            <a:r>
              <a:rPr b="1" i="1" lang="en-US" sz="2000" spc="-1" strike="noStrike">
                <a:solidFill>
                  <a:srgbClr val="cc0000"/>
                </a:solidFill>
                <a:latin typeface="Arial"/>
                <a:ea typeface="ＭＳ Ｐゴシック"/>
              </a:rPr>
              <a:t> </a:t>
            </a:r>
            <a:r>
              <a:rPr b="1" i="1" lang="en-US" sz="2000" spc="-1" strike="noStrike">
                <a:solidFill>
                  <a:srgbClr val="cc0000"/>
                </a:solidFill>
                <a:latin typeface="Arial"/>
                <a:ea typeface="ＭＳ Ｐゴシック"/>
              </a:rPr>
              <a:t>origin: momentum cons.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Symbol zastępczy stopki 3"/>
          <p:cNvSpPr/>
          <p:nvPr/>
        </p:nvSpPr>
        <p:spPr>
          <a:xfrm>
            <a:off x="20520" y="6624720"/>
            <a:ext cx="714384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t">
            <a:noAutofit/>
          </a:bodyPr>
          <a:p>
            <a:pPr>
              <a:lnSpc>
                <a:spcPct val="13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8701200"/>
                <a:tab algn="l" pos="9115560"/>
                <a:tab algn="l" pos="9529920"/>
                <a:tab algn="l" pos="9944280"/>
                <a:tab algn="l" pos="10358280"/>
                <a:tab algn="l" pos="1077264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Dariusz Miskowiec, Particle correlations in ALICE, Physics at the LHC, Hamburg, 10-Jun-2010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Symbol zastępczy numeru slajdu 4"/>
          <p:cNvSpPr/>
          <p:nvPr/>
        </p:nvSpPr>
        <p:spPr>
          <a:xfrm>
            <a:off x="7816680" y="6597720"/>
            <a:ext cx="1219320" cy="26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3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8701200"/>
                <a:tab algn="l" pos="9115560"/>
                <a:tab algn="l" pos="9529920"/>
                <a:tab algn="l" pos="9944280"/>
                <a:tab algn="l" pos="10358280"/>
                <a:tab algn="l" pos="10772640"/>
              </a:tabLst>
            </a:pPr>
            <a:fld id="{D1F26D68-24B2-468B-BF88-AB4D365F4C23}" type="slidenum">
              <a:rPr b="0" i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01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txBody>
          <a:bodyPr lIns="0" rIns="0" tIns="0" bIns="182880" anchor="ctr" anchorCtr="1">
            <a:noAutofit/>
          </a:bodyPr>
          <a:p>
            <a:pPr indent="0" algn="ctr">
              <a:lnSpc>
                <a:spcPct val="17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Non-identical particle correlations from pp at 7 TeV</a:t>
            </a:r>
            <a:endParaRPr b="1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1" name="Picture 13" descr="c"/>
          <p:cNvPicPr/>
          <p:nvPr/>
        </p:nvPicPr>
        <p:blipFill>
          <a:blip r:embed="rId1"/>
          <a:stretch/>
        </p:blipFill>
        <p:spPr>
          <a:xfrm>
            <a:off x="4511520" y="3840120"/>
            <a:ext cx="4553280" cy="287172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14" descr="c"/>
          <p:cNvPicPr/>
          <p:nvPr/>
        </p:nvPicPr>
        <p:blipFill>
          <a:blip r:embed="rId2"/>
          <a:stretch/>
        </p:blipFill>
        <p:spPr>
          <a:xfrm>
            <a:off x="4511520" y="903240"/>
            <a:ext cx="4553280" cy="2871720"/>
          </a:xfrm>
          <a:prstGeom prst="rect">
            <a:avLst/>
          </a:prstGeom>
          <a:ln w="0">
            <a:noFill/>
          </a:ln>
        </p:spPr>
      </p:pic>
      <p:sp>
        <p:nvSpPr>
          <p:cNvPr id="253" name="Text Box 6"/>
          <p:cNvSpPr/>
          <p:nvPr/>
        </p:nvSpPr>
        <p:spPr>
          <a:xfrm>
            <a:off x="250920" y="2046240"/>
            <a:ext cx="3744720" cy="7351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3080" rIns="73080" tIns="18360" bIns="64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  <a:ea typeface="ＭＳ Ｐゴシック"/>
              </a:rPr>
              <a:t>C(q</a:t>
            </a:r>
            <a:r>
              <a:rPr b="1" i="1" lang="en-US" sz="2000" spc="-1" strike="noStrike" baseline="-25000">
                <a:solidFill>
                  <a:srgbClr val="cc0000"/>
                </a:solidFill>
                <a:latin typeface="Arial"/>
                <a:ea typeface="ＭＳ Ｐゴシック"/>
              </a:rPr>
              <a:t>out </a:t>
            </a:r>
            <a:r>
              <a:rPr b="1" i="1" lang="en-US" sz="2000" spc="-1" strike="noStrike">
                <a:solidFill>
                  <a:srgbClr val="cc0000"/>
                </a:solidFill>
                <a:latin typeface="Arial"/>
                <a:ea typeface="ＭＳ Ｐゴシック"/>
              </a:rPr>
              <a:t>) asymmetry --  another handle on transverse flow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17"/>
          <p:cNvSpPr/>
          <p:nvPr/>
        </p:nvSpPr>
        <p:spPr>
          <a:xfrm>
            <a:off x="6195600" y="741240"/>
            <a:ext cx="130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ion - kaon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19"/>
          <p:cNvSpPr/>
          <p:nvPr/>
        </p:nvSpPr>
        <p:spPr>
          <a:xfrm>
            <a:off x="6184440" y="3695760"/>
            <a:ext cx="146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ion - proton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20"/>
          <p:cNvSpPr/>
          <p:nvPr/>
        </p:nvSpPr>
        <p:spPr>
          <a:xfrm>
            <a:off x="6971400" y="2198520"/>
            <a:ext cx="3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K</a:t>
            </a:r>
            <a:r>
              <a:rPr b="1" i="1" lang="en-US" sz="1800" spc="-1" strike="noStrike" baseline="30000">
                <a:solidFill>
                  <a:srgbClr val="ff0000"/>
                </a:solidFill>
                <a:latin typeface="Arial"/>
                <a:ea typeface="Arial"/>
              </a:rPr>
              <a:t>*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Oval 21"/>
          <p:cNvSpPr/>
          <p:nvPr/>
        </p:nvSpPr>
        <p:spPr>
          <a:xfrm>
            <a:off x="4856040" y="1469880"/>
            <a:ext cx="460440" cy="17290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Oval 22"/>
          <p:cNvSpPr/>
          <p:nvPr/>
        </p:nvSpPr>
        <p:spPr>
          <a:xfrm>
            <a:off x="4856040" y="4695840"/>
            <a:ext cx="460440" cy="1728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23"/>
          <p:cNvSpPr/>
          <p:nvPr/>
        </p:nvSpPr>
        <p:spPr>
          <a:xfrm>
            <a:off x="6297480" y="5330880"/>
            <a:ext cx="33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1800" spc="-1" strike="noStrike">
                <a:solidFill>
                  <a:srgbClr val="333399"/>
                </a:solidFill>
                <a:latin typeface="Arial"/>
                <a:ea typeface="Arial"/>
              </a:rPr>
              <a:t>Δ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24"/>
          <p:cNvSpPr/>
          <p:nvPr/>
        </p:nvSpPr>
        <p:spPr>
          <a:xfrm>
            <a:off x="5608080" y="43513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1800" spc="-1" strike="noStrike">
                <a:solidFill>
                  <a:srgbClr val="ff0000"/>
                </a:solidFill>
                <a:latin typeface="Arial"/>
                <a:ea typeface="Arial"/>
              </a:rPr>
              <a:t>Λ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28" descr="dare"/>
          <p:cNvPicPr/>
          <p:nvPr/>
        </p:nvPicPr>
        <p:blipFill>
          <a:blip r:embed="rId3"/>
          <a:stretch/>
        </p:blipFill>
        <p:spPr>
          <a:xfrm>
            <a:off x="538200" y="4290840"/>
            <a:ext cx="3341520" cy="1903680"/>
          </a:xfrm>
          <a:prstGeom prst="rect">
            <a:avLst/>
          </a:prstGeom>
          <a:ln w="0">
            <a:noFill/>
          </a:ln>
        </p:spPr>
      </p:pic>
      <p:sp>
        <p:nvSpPr>
          <p:cNvPr id="262" name="Text Box 29"/>
          <p:cNvSpPr/>
          <p:nvPr/>
        </p:nvSpPr>
        <p:spPr>
          <a:xfrm>
            <a:off x="830160" y="3198960"/>
            <a:ext cx="2752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xample: 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b+Au at 17.2 GeV 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F’s from CERES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+</a:t>
            </a:r>
            <a:r>
              <a:rPr b="0" i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 -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</a:t>
            </a:r>
            <a:r>
              <a:rPr b="0" i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         </a:t>
            </a:r>
            <a:r>
              <a:rPr b="0" i="1" lang="el-GR" sz="18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+p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Symbol zastępczy stopki 3"/>
          <p:cNvSpPr/>
          <p:nvPr/>
        </p:nvSpPr>
        <p:spPr>
          <a:xfrm>
            <a:off x="20520" y="6624720"/>
            <a:ext cx="714384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t">
            <a:noAutofit/>
          </a:bodyPr>
          <a:p>
            <a:pPr>
              <a:lnSpc>
                <a:spcPct val="13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8701200"/>
                <a:tab algn="l" pos="9115560"/>
                <a:tab algn="l" pos="9529920"/>
                <a:tab algn="l" pos="9944280"/>
                <a:tab algn="l" pos="10358280"/>
                <a:tab algn="l" pos="1077264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Dariusz Miskowiec, Particle correlations in ALICE, Physics at the LHC, Hamburg, 10-Jun-2010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Symbol zastępczy numeru slajdu 4"/>
          <p:cNvSpPr/>
          <p:nvPr/>
        </p:nvSpPr>
        <p:spPr>
          <a:xfrm>
            <a:off x="7816680" y="6597720"/>
            <a:ext cx="1219320" cy="26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3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8701200"/>
                <a:tab algn="l" pos="9115560"/>
                <a:tab algn="l" pos="9529920"/>
                <a:tab algn="l" pos="9944280"/>
                <a:tab algn="l" pos="10358280"/>
                <a:tab algn="l" pos="10772640"/>
              </a:tabLst>
            </a:pPr>
            <a:fld id="{D33016A5-A129-4A20-9513-5051B4D679FC}" type="slidenum">
              <a:rPr b="0" i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-4680" y="-25920"/>
            <a:ext cx="9144000" cy="83052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txBody>
          <a:bodyPr lIns="0" rIns="0" tIns="0" bIns="182880" anchor="ctr" anchorCtr="1">
            <a:noAutofit/>
          </a:bodyPr>
          <a:p>
            <a:pPr indent="0" algn="ctr">
              <a:lnSpc>
                <a:spcPct val="17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Summary</a:t>
            </a:r>
            <a:endParaRPr b="1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Rectangle 7"/>
          <p:cNvSpPr/>
          <p:nvPr/>
        </p:nvSpPr>
        <p:spPr>
          <a:xfrm>
            <a:off x="1346040" y="2795760"/>
            <a:ext cx="6681960" cy="104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71600" indent="-371520"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BT radii at 900 GeV depend on multiplicity 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71600" indent="-371520"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 strong dependence on transverse momentum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71600" indent="-371520"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rrelation baseline of crucial importance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Symbol zastępczy stopki 1"/>
          <p:cNvSpPr/>
          <p:nvPr/>
        </p:nvSpPr>
        <p:spPr>
          <a:xfrm>
            <a:off x="20520" y="6624720"/>
            <a:ext cx="714384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t">
            <a:noAutofit/>
          </a:bodyPr>
          <a:p>
            <a:pPr>
              <a:lnSpc>
                <a:spcPct val="13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8701200"/>
                <a:tab algn="l" pos="9115560"/>
                <a:tab algn="l" pos="9529920"/>
                <a:tab algn="l" pos="9944280"/>
                <a:tab algn="l" pos="10358280"/>
                <a:tab algn="l" pos="1077264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Dariusz Miskowiec, Particle correlations in ALICE, Physics at the LHC, Hamburg, 10-Jun-2010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ymbol zastępczy numeru slajdu 2"/>
          <p:cNvSpPr/>
          <p:nvPr/>
        </p:nvSpPr>
        <p:spPr>
          <a:xfrm>
            <a:off x="7816680" y="6597720"/>
            <a:ext cx="1219320" cy="26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3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8701200"/>
                <a:tab algn="l" pos="9115560"/>
                <a:tab algn="l" pos="9529920"/>
                <a:tab algn="l" pos="9944280"/>
                <a:tab algn="l" pos="10358280"/>
                <a:tab algn="l" pos="10772640"/>
              </a:tabLst>
            </a:pPr>
            <a:fld id="{F08C0814-5E98-4531-8EDF-236870513B15}" type="slidenum">
              <a:rPr b="0" i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Oval 25"/>
          <p:cNvSpPr/>
          <p:nvPr/>
        </p:nvSpPr>
        <p:spPr>
          <a:xfrm rot="16200000">
            <a:off x="6554160" y="2427840"/>
            <a:ext cx="1036440" cy="501480"/>
          </a:xfrm>
          <a:prstGeom prst="ellipse">
            <a:avLst/>
          </a:prstGeom>
          <a:solidFill>
            <a:srgbClr val="7fc0e0"/>
          </a:solidFill>
          <a:ln w="12600">
            <a:solidFill>
              <a:srgbClr val="7fc0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6"/>
          <p:cNvSpPr/>
          <p:nvPr/>
        </p:nvSpPr>
        <p:spPr>
          <a:xfrm>
            <a:off x="2093760" y="2160720"/>
            <a:ext cx="5010480" cy="1036440"/>
          </a:xfrm>
          <a:prstGeom prst="rect">
            <a:avLst/>
          </a:prstGeom>
          <a:solidFill>
            <a:srgbClr val="7fc0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val 27"/>
          <p:cNvSpPr/>
          <p:nvPr/>
        </p:nvSpPr>
        <p:spPr>
          <a:xfrm rot="16200000">
            <a:off x="1596240" y="2427840"/>
            <a:ext cx="1036440" cy="50148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7fc0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lide Number Placeholder 2"/>
          <p:cNvSpPr/>
          <p:nvPr/>
        </p:nvSpPr>
        <p:spPr>
          <a:xfrm>
            <a:off x="7816680" y="6597720"/>
            <a:ext cx="1219320" cy="26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3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8701200"/>
                <a:tab algn="l" pos="9115560"/>
                <a:tab algn="l" pos="9529920"/>
                <a:tab algn="l" pos="9944280"/>
                <a:tab algn="l" pos="10358280"/>
                <a:tab algn="l" pos="10772640"/>
              </a:tabLst>
            </a:pPr>
            <a:fld id="{B4F099F9-0FF1-4CEE-B38E-231713B49977}" type="slidenum">
              <a:rPr b="0" i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Slide Number Placeholder 4"/>
          <p:cNvSpPr/>
          <p:nvPr/>
        </p:nvSpPr>
        <p:spPr>
          <a:xfrm>
            <a:off x="8597880" y="6622920"/>
            <a:ext cx="546120" cy="2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r">
              <a:lnSpc>
                <a:spcPct val="13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8701200"/>
                <a:tab algn="l" pos="9115560"/>
                <a:tab algn="l" pos="9529920"/>
                <a:tab algn="l" pos="9944280"/>
                <a:tab algn="l" pos="10358280"/>
                <a:tab algn="l" pos="10772640"/>
              </a:tabLst>
            </a:pPr>
            <a:fld id="{0B94514C-003E-448C-86EE-5552D25EB909}" type="slidenum">
              <a:rPr b="0" i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Oval 13"/>
          <p:cNvSpPr/>
          <p:nvPr/>
        </p:nvSpPr>
        <p:spPr>
          <a:xfrm rot="16200000">
            <a:off x="4533120" y="2427840"/>
            <a:ext cx="1036440" cy="5014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26"/>
          <p:cNvSpPr/>
          <p:nvPr/>
        </p:nvSpPr>
        <p:spPr>
          <a:xfrm>
            <a:off x="4340160" y="2160720"/>
            <a:ext cx="692280" cy="10364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val 12"/>
          <p:cNvSpPr/>
          <p:nvPr/>
        </p:nvSpPr>
        <p:spPr>
          <a:xfrm rot="16200000">
            <a:off x="3842640" y="2427840"/>
            <a:ext cx="1036440" cy="501480"/>
          </a:xfrm>
          <a:prstGeom prst="ellipse">
            <a:avLst/>
          </a:prstGeom>
          <a:solidFill>
            <a:srgbClr val="e0554a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25"/>
          <p:cNvSpPr/>
          <p:nvPr/>
        </p:nvSpPr>
        <p:spPr>
          <a:xfrm flipH="1">
            <a:off x="653760" y="2678040"/>
            <a:ext cx="1439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26"/>
          <p:cNvSpPr/>
          <p:nvPr/>
        </p:nvSpPr>
        <p:spPr>
          <a:xfrm>
            <a:off x="7335720" y="2678040"/>
            <a:ext cx="1152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Group 49"/>
          <p:cNvGrpSpPr/>
          <p:nvPr/>
        </p:nvGrpSpPr>
        <p:grpSpPr>
          <a:xfrm>
            <a:off x="2611440" y="3195720"/>
            <a:ext cx="4148280" cy="291600"/>
            <a:chOff x="2611440" y="3195720"/>
            <a:chExt cx="4148280" cy="291600"/>
          </a:xfrm>
        </p:grpSpPr>
        <p:sp>
          <p:nvSpPr>
            <p:cNvPr id="104" name="Line 28"/>
            <p:cNvSpPr/>
            <p:nvPr/>
          </p:nvSpPr>
          <p:spPr>
            <a:xfrm>
              <a:off x="2611440" y="3195720"/>
              <a:ext cx="0" cy="288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Line 30"/>
            <p:cNvSpPr/>
            <p:nvPr/>
          </p:nvSpPr>
          <p:spPr>
            <a:xfrm>
              <a:off x="2957400" y="3197160"/>
              <a:ext cx="0" cy="288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Line 32"/>
            <p:cNvSpPr/>
            <p:nvPr/>
          </p:nvSpPr>
          <p:spPr>
            <a:xfrm>
              <a:off x="3303720" y="3197160"/>
              <a:ext cx="0" cy="288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Line 34"/>
            <p:cNvSpPr/>
            <p:nvPr/>
          </p:nvSpPr>
          <p:spPr>
            <a:xfrm>
              <a:off x="3649680" y="3195720"/>
              <a:ext cx="0" cy="288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Line 36"/>
            <p:cNvSpPr/>
            <p:nvPr/>
          </p:nvSpPr>
          <p:spPr>
            <a:xfrm>
              <a:off x="3995640" y="3197160"/>
              <a:ext cx="0" cy="288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Line 38"/>
            <p:cNvSpPr/>
            <p:nvPr/>
          </p:nvSpPr>
          <p:spPr>
            <a:xfrm>
              <a:off x="4341960" y="3197160"/>
              <a:ext cx="0" cy="288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4684680" y="3198600"/>
              <a:ext cx="0" cy="288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5031000" y="3198600"/>
              <a:ext cx="0" cy="288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5376960" y="3197160"/>
              <a:ext cx="0" cy="288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Line 44"/>
            <p:cNvSpPr/>
            <p:nvPr/>
          </p:nvSpPr>
          <p:spPr>
            <a:xfrm>
              <a:off x="5722920" y="3198600"/>
              <a:ext cx="0" cy="288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Line 45"/>
            <p:cNvSpPr/>
            <p:nvPr/>
          </p:nvSpPr>
          <p:spPr>
            <a:xfrm>
              <a:off x="6069240" y="3198600"/>
              <a:ext cx="0" cy="288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Line 47"/>
            <p:cNvSpPr/>
            <p:nvPr/>
          </p:nvSpPr>
          <p:spPr>
            <a:xfrm>
              <a:off x="6413400" y="3198600"/>
              <a:ext cx="0" cy="288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Line 48"/>
            <p:cNvSpPr/>
            <p:nvPr/>
          </p:nvSpPr>
          <p:spPr>
            <a:xfrm>
              <a:off x="6759720" y="3198600"/>
              <a:ext cx="0" cy="288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50"/>
          <p:cNvGrpSpPr/>
          <p:nvPr/>
        </p:nvGrpSpPr>
        <p:grpSpPr>
          <a:xfrm>
            <a:off x="2611440" y="1871640"/>
            <a:ext cx="4148280" cy="288720"/>
            <a:chOff x="2611440" y="1871640"/>
            <a:chExt cx="4148280" cy="288720"/>
          </a:xfrm>
        </p:grpSpPr>
        <p:sp>
          <p:nvSpPr>
            <p:cNvPr id="118" name="Line 51"/>
            <p:cNvSpPr/>
            <p:nvPr/>
          </p:nvSpPr>
          <p:spPr>
            <a:xfrm flipV="1">
              <a:off x="2611440" y="1874520"/>
              <a:ext cx="0" cy="285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2"/>
            <p:cNvSpPr/>
            <p:nvPr/>
          </p:nvSpPr>
          <p:spPr>
            <a:xfrm flipV="1">
              <a:off x="2957400" y="1873440"/>
              <a:ext cx="0" cy="285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3"/>
            <p:cNvSpPr/>
            <p:nvPr/>
          </p:nvSpPr>
          <p:spPr>
            <a:xfrm flipV="1">
              <a:off x="3303720" y="1873440"/>
              <a:ext cx="0" cy="285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4"/>
            <p:cNvSpPr/>
            <p:nvPr/>
          </p:nvSpPr>
          <p:spPr>
            <a:xfrm flipV="1">
              <a:off x="3649680" y="1874520"/>
              <a:ext cx="0" cy="285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Line 55"/>
            <p:cNvSpPr/>
            <p:nvPr/>
          </p:nvSpPr>
          <p:spPr>
            <a:xfrm flipV="1">
              <a:off x="3995640" y="1873440"/>
              <a:ext cx="0" cy="285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Line 56"/>
            <p:cNvSpPr/>
            <p:nvPr/>
          </p:nvSpPr>
          <p:spPr>
            <a:xfrm flipV="1">
              <a:off x="4341960" y="1873440"/>
              <a:ext cx="0" cy="285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Line 57"/>
            <p:cNvSpPr/>
            <p:nvPr/>
          </p:nvSpPr>
          <p:spPr>
            <a:xfrm flipV="1">
              <a:off x="4684680" y="1871640"/>
              <a:ext cx="0" cy="285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Line 58"/>
            <p:cNvSpPr/>
            <p:nvPr/>
          </p:nvSpPr>
          <p:spPr>
            <a:xfrm flipV="1">
              <a:off x="5031000" y="1871640"/>
              <a:ext cx="0" cy="285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Line 59"/>
            <p:cNvSpPr/>
            <p:nvPr/>
          </p:nvSpPr>
          <p:spPr>
            <a:xfrm flipV="1">
              <a:off x="5376960" y="1873440"/>
              <a:ext cx="0" cy="285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Line 60"/>
            <p:cNvSpPr/>
            <p:nvPr/>
          </p:nvSpPr>
          <p:spPr>
            <a:xfrm flipV="1">
              <a:off x="5722920" y="1871640"/>
              <a:ext cx="0" cy="285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Line 61"/>
            <p:cNvSpPr/>
            <p:nvPr/>
          </p:nvSpPr>
          <p:spPr>
            <a:xfrm flipV="1">
              <a:off x="6069240" y="1871640"/>
              <a:ext cx="0" cy="285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Line 62"/>
            <p:cNvSpPr/>
            <p:nvPr/>
          </p:nvSpPr>
          <p:spPr>
            <a:xfrm flipV="1">
              <a:off x="6413400" y="1871640"/>
              <a:ext cx="0" cy="285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Line 63"/>
            <p:cNvSpPr/>
            <p:nvPr/>
          </p:nvSpPr>
          <p:spPr>
            <a:xfrm flipV="1">
              <a:off x="6759720" y="1871640"/>
              <a:ext cx="0" cy="285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Rectangle 7"/>
          <p:cNvSpPr/>
          <p:nvPr/>
        </p:nvSpPr>
        <p:spPr>
          <a:xfrm>
            <a:off x="539640" y="5294160"/>
            <a:ext cx="8353440" cy="7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71600" indent="-371520"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ransverse expansion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T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spectra look thermal but boosted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71600" indent="-371520"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ngitudinal expansion </a:t>
            </a:r>
            <a:r>
              <a:rPr b="1" i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urce size depends on p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T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-4680" y="-25560"/>
            <a:ext cx="9144000" cy="83052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82880" anchor="ctr" anchorCtr="1">
            <a:noAutofit/>
          </a:bodyPr>
          <a:p>
            <a:pPr algn="ctr">
              <a:lnSpc>
                <a:spcPct val="177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Collectivity in </a:t>
            </a: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nuclear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collisions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67"/>
          <p:cNvSpPr/>
          <p:nvPr/>
        </p:nvSpPr>
        <p:spPr>
          <a:xfrm>
            <a:off x="3124440" y="1017720"/>
            <a:ext cx="2997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collective transverse velocity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68"/>
          <p:cNvSpPr/>
          <p:nvPr/>
        </p:nvSpPr>
        <p:spPr>
          <a:xfrm>
            <a:off x="3665160" y="3941640"/>
            <a:ext cx="232020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0000"/>
                </a:solidFill>
                <a:latin typeface="Arial"/>
              </a:rPr>
              <a:t>apparent source of 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0000"/>
                </a:solidFill>
                <a:latin typeface="Arial"/>
              </a:rPr>
              <a:t>pions with given (y,p</a:t>
            </a:r>
            <a:r>
              <a:rPr b="1" i="1" lang="en-US" sz="1600" spc="-1" strike="noStrike" baseline="-25000">
                <a:solidFill>
                  <a:srgbClr val="ff0000"/>
                </a:solidFill>
                <a:latin typeface="Arial"/>
              </a:rPr>
              <a:t>T</a:t>
            </a:r>
            <a:r>
              <a:rPr b="1" i="1" lang="en-US" sz="16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70"/>
          <p:cNvSpPr/>
          <p:nvPr/>
        </p:nvSpPr>
        <p:spPr>
          <a:xfrm rot="5400000">
            <a:off x="4543920" y="3340800"/>
            <a:ext cx="344160" cy="749160"/>
          </a:xfrm>
          <a:custGeom>
            <a:avLst/>
            <a:gdLst>
              <a:gd name="textAreaLeft" fmla="*/ 0 w 344160"/>
              <a:gd name="textAreaRight" fmla="*/ 124200 w 344160"/>
              <a:gd name="textAreaTop" fmla="*/ 19440 h 749160"/>
              <a:gd name="textAreaBottom" fmla="*/ 729720 h 749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71"/>
          <p:cNvSpPr/>
          <p:nvPr/>
        </p:nvSpPr>
        <p:spPr>
          <a:xfrm rot="16200000">
            <a:off x="4485600" y="-575640"/>
            <a:ext cx="344520" cy="4435560"/>
          </a:xfrm>
          <a:custGeom>
            <a:avLst/>
            <a:gdLst>
              <a:gd name="textAreaLeft" fmla="*/ 0 w 344520"/>
              <a:gd name="textAreaRight" fmla="*/ 124200 w 344520"/>
              <a:gd name="textAreaTop" fmla="*/ 115560 h 4435560"/>
              <a:gd name="textAreaBottom" fmla="*/ 4320000 h 4435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Text Box 2"/>
          <p:cNvSpPr/>
          <p:nvPr/>
        </p:nvSpPr>
        <p:spPr>
          <a:xfrm>
            <a:off x="3521880" y="2928960"/>
            <a:ext cx="2311200" cy="78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"/>
              </a:rPr>
              <a:t>backup</a:t>
            </a:r>
            <a:endParaRPr b="0" i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Symbol zastępczy stopki 1"/>
          <p:cNvSpPr/>
          <p:nvPr/>
        </p:nvSpPr>
        <p:spPr>
          <a:xfrm>
            <a:off x="20520" y="6624720"/>
            <a:ext cx="714384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t">
            <a:noAutofit/>
          </a:bodyPr>
          <a:p>
            <a:pPr>
              <a:lnSpc>
                <a:spcPct val="13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8701200"/>
                <a:tab algn="l" pos="9115560"/>
                <a:tab algn="l" pos="9529920"/>
                <a:tab algn="l" pos="9944280"/>
                <a:tab algn="l" pos="10358280"/>
                <a:tab algn="l" pos="1077264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Dariusz Miskowiec, Particle correlations in ALICE, Physics at the LHC, Hamburg, 10-Jun-2010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Symbol zastępczy numeru slajdu 2"/>
          <p:cNvSpPr/>
          <p:nvPr/>
        </p:nvSpPr>
        <p:spPr>
          <a:xfrm>
            <a:off x="7816680" y="6597720"/>
            <a:ext cx="1219320" cy="26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3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8701200"/>
                <a:tab algn="l" pos="9115560"/>
                <a:tab algn="l" pos="9529920"/>
                <a:tab algn="l" pos="9944280"/>
                <a:tab algn="l" pos="10358280"/>
                <a:tab algn="l" pos="10772640"/>
              </a:tabLst>
            </a:pPr>
            <a:fld id="{0C34B5CC-7AF8-4897-88A5-97C531B003A0}" type="slidenum">
              <a:rPr b="0" i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Slide Number Placeholder 2"/>
          <p:cNvSpPr/>
          <p:nvPr/>
        </p:nvSpPr>
        <p:spPr>
          <a:xfrm>
            <a:off x="7816680" y="6597720"/>
            <a:ext cx="1219320" cy="26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3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8701200"/>
                <a:tab algn="l" pos="9115560"/>
                <a:tab algn="l" pos="9529920"/>
                <a:tab algn="l" pos="9944280"/>
                <a:tab algn="l" pos="10358280"/>
                <a:tab algn="l" pos="10772640"/>
              </a:tabLst>
            </a:pPr>
            <a:fld id="{48C3D2F7-3C2E-46E5-AEF4-6E75CD1F756A}" type="slidenum">
              <a:rPr b="0" i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Slide Number Placeholder 4"/>
          <p:cNvSpPr/>
          <p:nvPr/>
        </p:nvSpPr>
        <p:spPr>
          <a:xfrm>
            <a:off x="8597880" y="6622920"/>
            <a:ext cx="546120" cy="2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r">
              <a:lnSpc>
                <a:spcPct val="13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8701200"/>
                <a:tab algn="l" pos="9115560"/>
                <a:tab algn="l" pos="9529920"/>
                <a:tab algn="l" pos="9944280"/>
                <a:tab algn="l" pos="10358280"/>
                <a:tab algn="l" pos="10772640"/>
              </a:tabLst>
            </a:pPr>
            <a:fld id="{DB33EE89-65A0-46D7-AADA-19BA116E4416}" type="slidenum">
              <a:rPr b="0" i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7"/>
          <p:cNvSpPr/>
          <p:nvPr/>
        </p:nvSpPr>
        <p:spPr>
          <a:xfrm>
            <a:off x="1130400" y="895320"/>
            <a:ext cx="36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10"/>
          <p:cNvSpPr/>
          <p:nvPr/>
        </p:nvSpPr>
        <p:spPr>
          <a:xfrm>
            <a:off x="-4680" y="-25560"/>
            <a:ext cx="9144000" cy="83052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82880" anchor="ctr" anchorCtr="1">
            <a:noAutofit/>
          </a:bodyPr>
          <a:p>
            <a:pPr algn="ctr">
              <a:lnSpc>
                <a:spcPct val="177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transverse momentum dependence of R</a:t>
            </a:r>
            <a:r>
              <a:rPr b="1" i="1" lang="en-US" sz="2400" spc="-1" strike="noStrike" baseline="-25000">
                <a:solidFill>
                  <a:srgbClr val="ffffff"/>
                </a:solidFill>
                <a:latin typeface="Arial"/>
              </a:rPr>
              <a:t>side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Picture 12" descr="expa"/>
          <p:cNvPicPr/>
          <p:nvPr/>
        </p:nvPicPr>
        <p:blipFill>
          <a:blip r:embed="rId1"/>
          <a:stretch/>
        </p:blipFill>
        <p:spPr>
          <a:xfrm>
            <a:off x="1922400" y="2046240"/>
            <a:ext cx="5573880" cy="40305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75" name="Object 7"/>
              <p:cNvSpPr txBox="1"/>
              <p:nvPr/>
            </p:nvSpPr>
            <p:spPr>
              <a:xfrm>
                <a:off x="5227560" y="1001880"/>
                <a:ext cx="2627280" cy="116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ide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/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/>
                                </m:sSub>
                                <m:r>
                                  <m:t xml:space="preserve"> </m:t>
                                </m:r>
                                <m:sSub>
                                  <m:e>
                                    <m:r>
                                      <m:t xml:space="preserve">η</m:t>
                                    </m:r>
                                  </m:e>
                                  <m:sub>
                                    <m:sSup>
                                      <m:e>
                                        <m:r>
                                          <m:t xml:space="preserve">f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sub>
                                </m:sSub>
                              </m:num>
                              <m:den>
                                <m:r>
                                  <m:t xml:space="preserve">T</m:t>
                                </m:r>
                              </m:den>
                            </m:f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6" name="Object 13"/>
              <p:cNvSpPr txBox="1"/>
              <p:nvPr/>
            </p:nvSpPr>
            <p:spPr>
              <a:xfrm>
                <a:off x="1633680" y="1001880"/>
                <a:ext cx="2838240" cy="81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ong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den>
                        </m:f>
                        <m:f>
                          <m:num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T</m:t>
                                </m:r>
                              </m:den>
                            </m:f>
                            <m:r>
                              <m:t xml:space="preserve">)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T</m:t>
                                </m:r>
                              </m:den>
                            </m:f>
                            <m:r>
                              <m:t xml:space="preserve">)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Symbol zastępczy stopki 1"/>
          <p:cNvSpPr/>
          <p:nvPr/>
        </p:nvSpPr>
        <p:spPr>
          <a:xfrm>
            <a:off x="20520" y="6624720"/>
            <a:ext cx="714384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t">
            <a:noAutofit/>
          </a:bodyPr>
          <a:p>
            <a:pPr>
              <a:lnSpc>
                <a:spcPct val="13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8701200"/>
                <a:tab algn="l" pos="9115560"/>
                <a:tab algn="l" pos="9529920"/>
                <a:tab algn="l" pos="9944280"/>
                <a:tab algn="l" pos="10358280"/>
                <a:tab algn="l" pos="1077264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Dariusz Miskowiec, Particle correlations in ALICE, Physics at the LHC, Hamburg, 10-Jun-2010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Symbol zastępczy numeru slajdu 2"/>
          <p:cNvSpPr/>
          <p:nvPr/>
        </p:nvSpPr>
        <p:spPr>
          <a:xfrm>
            <a:off x="7816680" y="6597720"/>
            <a:ext cx="1219320" cy="26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3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8701200"/>
                <a:tab algn="l" pos="9115560"/>
                <a:tab algn="l" pos="9529920"/>
                <a:tab algn="l" pos="9944280"/>
                <a:tab algn="l" pos="10358280"/>
                <a:tab algn="l" pos="10772640"/>
              </a:tabLst>
            </a:pPr>
            <a:fld id="{E2D89839-6E4F-4E9B-B8BB-92A038927F83}" type="slidenum">
              <a:rPr b="0" i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Slide Number Placeholder 2"/>
          <p:cNvSpPr/>
          <p:nvPr/>
        </p:nvSpPr>
        <p:spPr>
          <a:xfrm>
            <a:off x="7816680" y="6597720"/>
            <a:ext cx="1219320" cy="26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3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8701200"/>
                <a:tab algn="l" pos="9115560"/>
                <a:tab algn="l" pos="9529920"/>
                <a:tab algn="l" pos="9944280"/>
                <a:tab algn="l" pos="10358280"/>
                <a:tab algn="l" pos="10772640"/>
              </a:tabLst>
            </a:pPr>
            <a:fld id="{AED04845-916B-4DEF-8675-E33BD2D0F1FE}" type="slidenum">
              <a:rPr b="0" i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Slide Number Placeholder 4"/>
          <p:cNvSpPr/>
          <p:nvPr/>
        </p:nvSpPr>
        <p:spPr>
          <a:xfrm>
            <a:off x="8597880" y="6622920"/>
            <a:ext cx="546120" cy="2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r">
              <a:lnSpc>
                <a:spcPct val="13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8701200"/>
                <a:tab algn="l" pos="9115560"/>
                <a:tab algn="l" pos="9529920"/>
                <a:tab algn="l" pos="9944280"/>
                <a:tab algn="l" pos="10358280"/>
                <a:tab algn="l" pos="10772640"/>
              </a:tabLst>
            </a:pPr>
            <a:fld id="{5565119E-99CF-49E1-9325-A5ACE8A12EC2}" type="slidenum">
              <a:rPr b="0" i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6"/>
          <p:cNvSpPr/>
          <p:nvPr/>
        </p:nvSpPr>
        <p:spPr>
          <a:xfrm>
            <a:off x="4514760" y="5775480"/>
            <a:ext cx="3398760" cy="69336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3080" rIns="73080" tIns="18360" bIns="64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  <a:ea typeface="ＭＳ Ｐゴシック"/>
              </a:rPr>
              <a:t>baseline slope significant at 0.9 TeV and above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7" descr="c"/>
          <p:cNvPicPr/>
          <p:nvPr/>
        </p:nvPicPr>
        <p:blipFill>
          <a:blip r:embed="rId1"/>
          <a:stretch/>
        </p:blipFill>
        <p:spPr>
          <a:xfrm>
            <a:off x="395280" y="317520"/>
            <a:ext cx="8353440" cy="5400720"/>
          </a:xfrm>
          <a:prstGeom prst="rect">
            <a:avLst/>
          </a:prstGeom>
          <a:ln w="0">
            <a:noFill/>
          </a:ln>
        </p:spPr>
      </p:pic>
      <p:sp>
        <p:nvSpPr>
          <p:cNvPr id="283" name="Text Box 8"/>
          <p:cNvSpPr/>
          <p:nvPr/>
        </p:nvSpPr>
        <p:spPr>
          <a:xfrm>
            <a:off x="564840" y="6000840"/>
            <a:ext cx="229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tudy by Adam Kisiel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Symbol zastępczy stopki 3"/>
          <p:cNvSpPr/>
          <p:nvPr/>
        </p:nvSpPr>
        <p:spPr>
          <a:xfrm>
            <a:off x="20520" y="6624720"/>
            <a:ext cx="714384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t">
            <a:noAutofit/>
          </a:bodyPr>
          <a:p>
            <a:pPr>
              <a:lnSpc>
                <a:spcPct val="13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8701200"/>
                <a:tab algn="l" pos="9115560"/>
                <a:tab algn="l" pos="9529920"/>
                <a:tab algn="l" pos="9944280"/>
                <a:tab algn="l" pos="10358280"/>
                <a:tab algn="l" pos="1077264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Dariusz Miskowiec, Particle correlations in ALICE, Physics at the LHC, Hamburg, 10-Jun-2010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Symbol zastępczy numeru slajdu 4"/>
          <p:cNvSpPr/>
          <p:nvPr/>
        </p:nvSpPr>
        <p:spPr>
          <a:xfrm>
            <a:off x="7816680" y="6597720"/>
            <a:ext cx="1219320" cy="26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3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8701200"/>
                <a:tab algn="l" pos="9115560"/>
                <a:tab algn="l" pos="9529920"/>
                <a:tab algn="l" pos="9944280"/>
                <a:tab algn="l" pos="10358280"/>
                <a:tab algn="l" pos="10772640"/>
              </a:tabLst>
            </a:pPr>
            <a:fld id="{B351383B-A68C-4AF3-9A13-C84614563D40}" type="slidenum">
              <a:rPr b="0" i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Picture 2" descr="correl"/>
          <p:cNvPicPr/>
          <p:nvPr/>
        </p:nvPicPr>
        <p:blipFill>
          <a:blip r:embed="rId1"/>
          <a:stretch/>
        </p:blipFill>
        <p:spPr>
          <a:xfrm>
            <a:off x="304920" y="657360"/>
            <a:ext cx="8534160" cy="5543280"/>
          </a:xfrm>
          <a:prstGeom prst="rect">
            <a:avLst/>
          </a:prstGeom>
          <a:ln w="0">
            <a:noFill/>
          </a:ln>
        </p:spPr>
      </p:pic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-4680" y="-25920"/>
            <a:ext cx="9144000" cy="83052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txBody>
          <a:bodyPr lIns="0" rIns="0" tIns="0" bIns="182880" anchor="ctr" anchorCtr="1">
            <a:noAutofit/>
          </a:bodyPr>
          <a:p>
            <a:pPr indent="0" algn="ctr">
              <a:lnSpc>
                <a:spcPct val="17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7 TeV, identical pions</a:t>
            </a:r>
            <a:endParaRPr b="1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Text Box 4"/>
          <p:cNvSpPr/>
          <p:nvPr/>
        </p:nvSpPr>
        <p:spPr>
          <a:xfrm>
            <a:off x="7854840" y="1297080"/>
            <a:ext cx="1173240" cy="4435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ow mult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igh mult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Symbol zastępczy stopki 3"/>
          <p:cNvSpPr/>
          <p:nvPr/>
        </p:nvSpPr>
        <p:spPr>
          <a:xfrm>
            <a:off x="20520" y="6624720"/>
            <a:ext cx="714384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t">
            <a:noAutofit/>
          </a:bodyPr>
          <a:p>
            <a:pPr>
              <a:lnSpc>
                <a:spcPct val="13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8701200"/>
                <a:tab algn="l" pos="9115560"/>
                <a:tab algn="l" pos="9529920"/>
                <a:tab algn="l" pos="9944280"/>
                <a:tab algn="l" pos="10358280"/>
                <a:tab algn="l" pos="1077264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Dariusz Miskowiec, Particle correlations in ALICE, Physics at the LHC, Hamburg, 10-Jun-2010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Symbol zastępczy numeru slajdu 4"/>
          <p:cNvSpPr/>
          <p:nvPr/>
        </p:nvSpPr>
        <p:spPr>
          <a:xfrm>
            <a:off x="7816680" y="6597720"/>
            <a:ext cx="1219320" cy="26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3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8701200"/>
                <a:tab algn="l" pos="9115560"/>
                <a:tab algn="l" pos="9529920"/>
                <a:tab algn="l" pos="9944280"/>
                <a:tab algn="l" pos="10358280"/>
                <a:tab algn="l" pos="10772640"/>
              </a:tabLst>
            </a:pPr>
            <a:fld id="{09E7FDF7-9082-46DF-8612-523005064E21}" type="slidenum">
              <a:rPr b="0" i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Picture 2" descr="correl"/>
          <p:cNvPicPr/>
          <p:nvPr/>
        </p:nvPicPr>
        <p:blipFill>
          <a:blip r:embed="rId1"/>
          <a:stretch/>
        </p:blipFill>
        <p:spPr>
          <a:xfrm>
            <a:off x="304920" y="657360"/>
            <a:ext cx="8534160" cy="5543280"/>
          </a:xfrm>
          <a:prstGeom prst="rect">
            <a:avLst/>
          </a:prstGeom>
          <a:ln w="0">
            <a:noFill/>
          </a:ln>
        </p:spPr>
      </p:pic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-4680" y="-25920"/>
            <a:ext cx="9144000" cy="83052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txBody>
          <a:bodyPr lIns="0" rIns="0" tIns="0" bIns="182880" anchor="ctr" anchorCtr="1">
            <a:noAutofit/>
          </a:bodyPr>
          <a:p>
            <a:pPr indent="0" algn="ctr">
              <a:lnSpc>
                <a:spcPct val="17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High stat 900 GeV from 2010, identical pions</a:t>
            </a:r>
            <a:endParaRPr b="1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Text Box 4"/>
          <p:cNvSpPr/>
          <p:nvPr/>
        </p:nvSpPr>
        <p:spPr>
          <a:xfrm>
            <a:off x="7854840" y="1297080"/>
            <a:ext cx="1173240" cy="4435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ow mult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igh mult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Symbol zastępczy stopki 3"/>
          <p:cNvSpPr/>
          <p:nvPr/>
        </p:nvSpPr>
        <p:spPr>
          <a:xfrm>
            <a:off x="20520" y="6624720"/>
            <a:ext cx="714384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t">
            <a:noAutofit/>
          </a:bodyPr>
          <a:p>
            <a:pPr>
              <a:lnSpc>
                <a:spcPct val="13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8701200"/>
                <a:tab algn="l" pos="9115560"/>
                <a:tab algn="l" pos="9529920"/>
                <a:tab algn="l" pos="9944280"/>
                <a:tab algn="l" pos="10358280"/>
                <a:tab algn="l" pos="1077264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Dariusz Miskowiec, Particle correlations in ALICE, Physics at the LHC, Hamburg, 10-Jun-2010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Symbol zastępczy numeru slajdu 4"/>
          <p:cNvSpPr/>
          <p:nvPr/>
        </p:nvSpPr>
        <p:spPr>
          <a:xfrm>
            <a:off x="7816680" y="6597720"/>
            <a:ext cx="1219320" cy="26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3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8701200"/>
                <a:tab algn="l" pos="9115560"/>
                <a:tab algn="l" pos="9529920"/>
                <a:tab algn="l" pos="9944280"/>
                <a:tab algn="l" pos="10358280"/>
                <a:tab algn="l" pos="10772640"/>
              </a:tabLst>
            </a:pPr>
            <a:fld id="{C52EAC2A-46AE-46BF-BAB7-C09D13D67A11}" type="slidenum">
              <a:rPr b="0" i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Picture 2" descr="correl"/>
          <p:cNvPicPr/>
          <p:nvPr/>
        </p:nvPicPr>
        <p:blipFill>
          <a:blip r:embed="rId1"/>
          <a:stretch/>
        </p:blipFill>
        <p:spPr>
          <a:xfrm>
            <a:off x="304920" y="657360"/>
            <a:ext cx="8534160" cy="5543280"/>
          </a:xfrm>
          <a:prstGeom prst="rect">
            <a:avLst/>
          </a:prstGeom>
          <a:ln w="0">
            <a:noFill/>
          </a:ln>
        </p:spPr>
      </p:pic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-4680" y="-25920"/>
            <a:ext cx="9144000" cy="83052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txBody>
          <a:bodyPr lIns="0" rIns="0" tIns="0" bIns="182880" anchor="ctr" anchorCtr="1">
            <a:noAutofit/>
          </a:bodyPr>
          <a:p>
            <a:pPr indent="0" algn="ctr">
              <a:lnSpc>
                <a:spcPct val="17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7 TeV, unlike-sign pions</a:t>
            </a:r>
            <a:endParaRPr b="1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Text Box 4"/>
          <p:cNvSpPr/>
          <p:nvPr/>
        </p:nvSpPr>
        <p:spPr>
          <a:xfrm>
            <a:off x="7854840" y="1297080"/>
            <a:ext cx="1173240" cy="4435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ow mult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igh mult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Symbol zastępczy stopki 3"/>
          <p:cNvSpPr/>
          <p:nvPr/>
        </p:nvSpPr>
        <p:spPr>
          <a:xfrm>
            <a:off x="20520" y="6624720"/>
            <a:ext cx="714384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t">
            <a:noAutofit/>
          </a:bodyPr>
          <a:p>
            <a:pPr>
              <a:lnSpc>
                <a:spcPct val="13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8701200"/>
                <a:tab algn="l" pos="9115560"/>
                <a:tab algn="l" pos="9529920"/>
                <a:tab algn="l" pos="9944280"/>
                <a:tab algn="l" pos="10358280"/>
                <a:tab algn="l" pos="1077264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Dariusz Miskowiec, Particle correlations in ALICE, Physics at the LHC, Hamburg, 10-Jun-2010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Symbol zastępczy numeru slajdu 4"/>
          <p:cNvSpPr/>
          <p:nvPr/>
        </p:nvSpPr>
        <p:spPr>
          <a:xfrm>
            <a:off x="7816680" y="6597720"/>
            <a:ext cx="1219320" cy="26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3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8701200"/>
                <a:tab algn="l" pos="9115560"/>
                <a:tab algn="l" pos="9529920"/>
                <a:tab algn="l" pos="9944280"/>
                <a:tab algn="l" pos="10358280"/>
                <a:tab algn="l" pos="10772640"/>
              </a:tabLst>
            </a:pPr>
            <a:fld id="{96482DEB-FCF1-4516-9E3D-72BEA42D0C3C}" type="slidenum">
              <a:rPr b="0" i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Picture 2" descr="correl"/>
          <p:cNvPicPr/>
          <p:nvPr/>
        </p:nvPicPr>
        <p:blipFill>
          <a:blip r:embed="rId1"/>
          <a:stretch/>
        </p:blipFill>
        <p:spPr>
          <a:xfrm>
            <a:off x="304920" y="657360"/>
            <a:ext cx="8534160" cy="5543280"/>
          </a:xfrm>
          <a:prstGeom prst="rect">
            <a:avLst/>
          </a:prstGeom>
          <a:ln w="0">
            <a:noFill/>
          </a:ln>
        </p:spPr>
      </p:pic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-4680" y="-25920"/>
            <a:ext cx="9144000" cy="83052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txBody>
          <a:bodyPr lIns="0" rIns="0" tIns="0" bIns="182880" anchor="ctr" anchorCtr="1">
            <a:noAutofit/>
          </a:bodyPr>
          <a:p>
            <a:pPr indent="0" algn="ctr">
              <a:lnSpc>
                <a:spcPct val="17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High stat 900 GeV, from 2010 unlike-sign pions</a:t>
            </a:r>
            <a:endParaRPr b="1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Text Box 4"/>
          <p:cNvSpPr/>
          <p:nvPr/>
        </p:nvSpPr>
        <p:spPr>
          <a:xfrm>
            <a:off x="7854840" y="1297080"/>
            <a:ext cx="1173240" cy="4435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ow mult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igh mult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ymbol zastępczy stopki 1"/>
          <p:cNvSpPr/>
          <p:nvPr/>
        </p:nvSpPr>
        <p:spPr>
          <a:xfrm>
            <a:off x="20520" y="6624720"/>
            <a:ext cx="714384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t">
            <a:noAutofit/>
          </a:bodyPr>
          <a:p>
            <a:pPr>
              <a:lnSpc>
                <a:spcPct val="13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8701200"/>
                <a:tab algn="l" pos="9115560"/>
                <a:tab algn="l" pos="9529920"/>
                <a:tab algn="l" pos="9944280"/>
                <a:tab algn="l" pos="10358280"/>
                <a:tab algn="l" pos="1077264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Dariusz Miskowiec, Particle correlations in ALICE, Physics at the LHC, Hamburg, 10-Jun-2010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ymbol zastępczy numeru slajdu 2"/>
          <p:cNvSpPr/>
          <p:nvPr/>
        </p:nvSpPr>
        <p:spPr>
          <a:xfrm>
            <a:off x="7816680" y="6597720"/>
            <a:ext cx="1219320" cy="26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3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8701200"/>
                <a:tab algn="l" pos="9115560"/>
                <a:tab algn="l" pos="9529920"/>
                <a:tab algn="l" pos="9944280"/>
                <a:tab algn="l" pos="10358280"/>
                <a:tab algn="l" pos="10772640"/>
              </a:tabLst>
            </a:pPr>
            <a:fld id="{3EA9878E-3921-4884-B513-283633686BEE}" type="slidenum">
              <a:rPr b="0" i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lide Number Placeholder 2"/>
          <p:cNvSpPr/>
          <p:nvPr/>
        </p:nvSpPr>
        <p:spPr>
          <a:xfrm>
            <a:off x="7816680" y="6597720"/>
            <a:ext cx="1219320" cy="26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3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8701200"/>
                <a:tab algn="l" pos="9115560"/>
                <a:tab algn="l" pos="9529920"/>
                <a:tab algn="l" pos="9944280"/>
                <a:tab algn="l" pos="10358280"/>
                <a:tab algn="l" pos="10772640"/>
              </a:tabLst>
            </a:pPr>
            <a:fld id="{8A43A59A-630F-4FAE-979E-E73BDD018487}" type="slidenum">
              <a:rPr b="0" i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23" descr="mike2"/>
          <p:cNvPicPr/>
          <p:nvPr/>
        </p:nvPicPr>
        <p:blipFill>
          <a:blip r:embed="rId1"/>
          <a:stretch/>
        </p:blipFill>
        <p:spPr>
          <a:xfrm>
            <a:off x="250920" y="1068480"/>
            <a:ext cx="4965480" cy="5472000"/>
          </a:xfrm>
          <a:prstGeom prst="rect">
            <a:avLst/>
          </a:prstGeom>
          <a:ln w="0">
            <a:noFill/>
          </a:ln>
        </p:spPr>
      </p:pic>
      <p:sp>
        <p:nvSpPr>
          <p:cNvPr id="141" name="TextBox 11"/>
          <p:cNvSpPr/>
          <p:nvPr/>
        </p:nvSpPr>
        <p:spPr>
          <a:xfrm>
            <a:off x="5617080" y="1989000"/>
            <a:ext cx="3251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temperature and transverse 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flow when energy conservation 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treated properly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lide Number Placeholder 24"/>
          <p:cNvSpPr/>
          <p:nvPr/>
        </p:nvSpPr>
        <p:spPr>
          <a:xfrm>
            <a:off x="7010280" y="662940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2EF74-E913-4165-9C98-7AC181FE5641}" type="slidenum">
              <a:rPr b="0" lang="en-US" sz="1200" spc="-1" strike="noStrike">
                <a:solidFill>
                  <a:srgbClr val="595959"/>
                </a:solidFill>
                <a:latin typeface="Arial"/>
                <a:ea typeface="ＭＳ Ｐゴシック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7"/>
          <p:cNvSpPr/>
          <p:nvPr/>
        </p:nvSpPr>
        <p:spPr>
          <a:xfrm>
            <a:off x="758880" y="871560"/>
            <a:ext cx="4556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Mike Lisa, CERN Theory Phenomenology Seminar, 16-Oct-2009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18"/>
          <p:cNvSpPr/>
          <p:nvPr/>
        </p:nvSpPr>
        <p:spPr>
          <a:xfrm flipH="1">
            <a:off x="4284720" y="2506680"/>
            <a:ext cx="1093680" cy="5868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20"/>
          <p:cNvSpPr/>
          <p:nvPr/>
        </p:nvSpPr>
        <p:spPr>
          <a:xfrm>
            <a:off x="-4680" y="-25560"/>
            <a:ext cx="9144000" cy="83052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82880" anchor="ctr" anchorCtr="1">
            <a:noAutofit/>
          </a:bodyPr>
          <a:p>
            <a:pPr algn="ctr">
              <a:lnSpc>
                <a:spcPct val="177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Transverse expansio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6"/>
          <p:cNvSpPr/>
          <p:nvPr/>
        </p:nvSpPr>
        <p:spPr>
          <a:xfrm>
            <a:off x="5205240" y="4869000"/>
            <a:ext cx="3765600" cy="99828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3080" rIns="73080" tIns="18360" bIns="64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  <a:ea typeface="ＭＳ Ｐゴシック"/>
              </a:rPr>
              <a:t>transverse expansion seems to be there even in very peripheral nuclear collisions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Symbol zastępczy stopki 3"/>
          <p:cNvSpPr/>
          <p:nvPr/>
        </p:nvSpPr>
        <p:spPr>
          <a:xfrm>
            <a:off x="20520" y="6624720"/>
            <a:ext cx="714384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t">
            <a:noAutofit/>
          </a:bodyPr>
          <a:p>
            <a:pPr>
              <a:lnSpc>
                <a:spcPct val="13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8701200"/>
                <a:tab algn="l" pos="9115560"/>
                <a:tab algn="l" pos="9529920"/>
                <a:tab algn="l" pos="9944280"/>
                <a:tab algn="l" pos="10358280"/>
                <a:tab algn="l" pos="1077264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Dariusz Miskowiec, Particle correlations in ALICE, Physics at the LHC, Hamburg, 10-Jun-2010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ymbol zastępczy numeru slajdu 4"/>
          <p:cNvSpPr/>
          <p:nvPr/>
        </p:nvSpPr>
        <p:spPr>
          <a:xfrm>
            <a:off x="7816680" y="6597720"/>
            <a:ext cx="1219320" cy="26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3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8701200"/>
                <a:tab algn="l" pos="9115560"/>
                <a:tab algn="l" pos="9529920"/>
                <a:tab algn="l" pos="9944280"/>
                <a:tab algn="l" pos="10358280"/>
                <a:tab algn="l" pos="10772640"/>
              </a:tabLst>
            </a:pPr>
            <a:fld id="{A5CDBC9A-5CC2-4F0B-9B16-F2B7094765A0}" type="slidenum">
              <a:rPr b="0" i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-4680" y="-25920"/>
            <a:ext cx="9144000" cy="83052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txBody>
          <a:bodyPr lIns="0" rIns="0" tIns="0" bIns="182880" anchor="ctr" anchorCtr="1">
            <a:noAutofit/>
          </a:bodyPr>
          <a:p>
            <a:pPr indent="0" algn="ctr">
              <a:lnSpc>
                <a:spcPct val="17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Pion source size from STAR</a:t>
            </a:r>
            <a:endParaRPr b="1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Picture 7" descr="Figure6"/>
          <p:cNvPicPr/>
          <p:nvPr/>
        </p:nvPicPr>
        <p:blipFill>
          <a:blip r:embed="rId1"/>
          <a:stretch/>
        </p:blipFill>
        <p:spPr>
          <a:xfrm>
            <a:off x="309600" y="1469880"/>
            <a:ext cx="4032360" cy="40039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8" descr="figure6"/>
          <p:cNvPicPr/>
          <p:nvPr/>
        </p:nvPicPr>
        <p:blipFill>
          <a:blip r:embed="rId2"/>
          <a:stretch/>
        </p:blipFill>
        <p:spPr>
          <a:xfrm>
            <a:off x="4572000" y="1092240"/>
            <a:ext cx="4551480" cy="438624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9"/>
          <p:cNvSpPr/>
          <p:nvPr/>
        </p:nvSpPr>
        <p:spPr>
          <a:xfrm>
            <a:off x="4854240" y="1066680"/>
            <a:ext cx="240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STAR, arXiv:1004.0925 [nucl-ex]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0"/>
          <p:cNvSpPr/>
          <p:nvPr/>
        </p:nvSpPr>
        <p:spPr>
          <a:xfrm>
            <a:off x="1269360" y="1079640"/>
            <a:ext cx="2732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STAR, Phys. Rev. C 80 (2009) 24905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6"/>
          <p:cNvSpPr/>
          <p:nvPr/>
        </p:nvSpPr>
        <p:spPr>
          <a:xfrm>
            <a:off x="307800" y="5850000"/>
            <a:ext cx="8699760" cy="43020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3080" rIns="73080" tIns="18360" bIns="64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  <a:ea typeface="ＭＳ Ｐゴシック"/>
              </a:rPr>
              <a:t>p</a:t>
            </a:r>
            <a:r>
              <a:rPr b="1" i="1" lang="en-US" sz="2000" spc="-1" strike="noStrike" baseline="-25000">
                <a:solidFill>
                  <a:srgbClr val="cc0000"/>
                </a:solidFill>
                <a:latin typeface="Arial"/>
                <a:ea typeface="ＭＳ Ｐゴシック"/>
              </a:rPr>
              <a:t>T</a:t>
            </a:r>
            <a:r>
              <a:rPr b="1" i="1" lang="en-US" sz="2000" spc="-1" strike="noStrike">
                <a:solidFill>
                  <a:srgbClr val="cc0000"/>
                </a:solidFill>
                <a:latin typeface="Arial"/>
                <a:ea typeface="ＭＳ Ｐゴシック"/>
              </a:rPr>
              <a:t> dependence of pion source size similar in nuclear and pp collisions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12"/>
          <p:cNvSpPr/>
          <p:nvPr/>
        </p:nvSpPr>
        <p:spPr>
          <a:xfrm>
            <a:off x="250920" y="1585800"/>
            <a:ext cx="2016000" cy="93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Au + Au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Cu + Cu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13"/>
          <p:cNvSpPr/>
          <p:nvPr/>
        </p:nvSpPr>
        <p:spPr>
          <a:xfrm>
            <a:off x="6877080" y="1355760"/>
            <a:ext cx="2016000" cy="18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 + p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(various ways 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of fitting)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Symbol zastępczy stopki 3"/>
          <p:cNvSpPr/>
          <p:nvPr/>
        </p:nvSpPr>
        <p:spPr>
          <a:xfrm>
            <a:off x="20520" y="6624720"/>
            <a:ext cx="714384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t">
            <a:noAutofit/>
          </a:bodyPr>
          <a:p>
            <a:pPr>
              <a:lnSpc>
                <a:spcPct val="13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8701200"/>
                <a:tab algn="l" pos="9115560"/>
                <a:tab algn="l" pos="9529920"/>
                <a:tab algn="l" pos="9944280"/>
                <a:tab algn="l" pos="10358280"/>
                <a:tab algn="l" pos="1077264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Dariusz Miskowiec, Particle correlations in ALICE, Physics at the LHC, Hamburg, 10-Jun-2010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ymbol zastępczy numeru slajdu 4"/>
          <p:cNvSpPr/>
          <p:nvPr/>
        </p:nvSpPr>
        <p:spPr>
          <a:xfrm>
            <a:off x="7816680" y="6597720"/>
            <a:ext cx="1219320" cy="26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3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8701200"/>
                <a:tab algn="l" pos="9115560"/>
                <a:tab algn="l" pos="9529920"/>
                <a:tab algn="l" pos="9944280"/>
                <a:tab algn="l" pos="10358280"/>
                <a:tab algn="l" pos="10772640"/>
              </a:tabLst>
            </a:pPr>
            <a:fld id="{EAC0AAD3-12F0-4180-AFFE-8D380323CFD7}" type="slidenum">
              <a:rPr b="0" i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-4680" y="-25920"/>
            <a:ext cx="9144000" cy="83052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txBody>
          <a:bodyPr lIns="0" rIns="0" tIns="0" bIns="182880" anchor="ctr" anchorCtr="1">
            <a:noAutofit/>
          </a:bodyPr>
          <a:p>
            <a:pPr indent="0" algn="ctr">
              <a:lnSpc>
                <a:spcPct val="17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identical-pion correlation analysis technique (HBT)</a:t>
            </a:r>
            <a:endParaRPr b="1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" name="Picture 6" descr="c"/>
          <p:cNvPicPr/>
          <p:nvPr/>
        </p:nvPicPr>
        <p:blipFill>
          <a:blip r:embed="rId1"/>
          <a:stretch/>
        </p:blipFill>
        <p:spPr>
          <a:xfrm>
            <a:off x="781200" y="1290600"/>
            <a:ext cx="7581600" cy="4781520"/>
          </a:xfrm>
          <a:prstGeom prst="rect">
            <a:avLst/>
          </a:prstGeom>
          <a:ln w="0">
            <a:noFill/>
          </a:ln>
        </p:spPr>
      </p:pic>
      <p:sp>
        <p:nvSpPr>
          <p:cNvPr id="161" name="AutoShape 8"/>
          <p:cNvSpPr/>
          <p:nvPr/>
        </p:nvSpPr>
        <p:spPr>
          <a:xfrm flipV="1" rot="16200000">
            <a:off x="1777680" y="1259640"/>
            <a:ext cx="230040" cy="405000"/>
          </a:xfrm>
          <a:custGeom>
            <a:avLst/>
            <a:gdLst>
              <a:gd name="textAreaLeft" fmla="*/ 0 w 230040"/>
              <a:gd name="textAreaRight" fmla="*/ 83160 w 230040"/>
              <a:gd name="textAreaTop" fmla="*/ 10440 h 405000"/>
              <a:gd name="textAreaBottom" fmla="*/ 394560 h 405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9"/>
          <p:cNvSpPr/>
          <p:nvPr/>
        </p:nvSpPr>
        <p:spPr>
          <a:xfrm>
            <a:off x="604080" y="952560"/>
            <a:ext cx="284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333399"/>
                </a:solidFill>
                <a:latin typeface="Arial"/>
              </a:rPr>
              <a:t>peak width ~ 1 / source size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6"/>
          <p:cNvSpPr/>
          <p:nvPr/>
        </p:nvSpPr>
        <p:spPr>
          <a:xfrm>
            <a:off x="1805040" y="6137280"/>
            <a:ext cx="5416560" cy="3884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3080" rIns="73080" tIns="18360" bIns="64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  <a:ea typeface="ＭＳ Ｐゴシック"/>
              </a:rPr>
              <a:t>pion source size accessible experimentally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Symbol zastępczy stopki 3"/>
          <p:cNvSpPr/>
          <p:nvPr/>
        </p:nvSpPr>
        <p:spPr>
          <a:xfrm>
            <a:off x="20520" y="6624720"/>
            <a:ext cx="714384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t">
            <a:noAutofit/>
          </a:bodyPr>
          <a:p>
            <a:pPr>
              <a:lnSpc>
                <a:spcPct val="13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8701200"/>
                <a:tab algn="l" pos="9115560"/>
                <a:tab algn="l" pos="9529920"/>
                <a:tab algn="l" pos="9944280"/>
                <a:tab algn="l" pos="10358280"/>
                <a:tab algn="l" pos="1077264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Dariusz Miskowiec, Particle correlations in ALICE, Physics at the LHC, Hamburg, 10-Jun-2010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Symbol zastępczy numeru slajdu 4"/>
          <p:cNvSpPr/>
          <p:nvPr/>
        </p:nvSpPr>
        <p:spPr>
          <a:xfrm>
            <a:off x="7816680" y="6597720"/>
            <a:ext cx="1219320" cy="26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3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8701200"/>
                <a:tab algn="l" pos="9115560"/>
                <a:tab algn="l" pos="9529920"/>
                <a:tab algn="l" pos="9944280"/>
                <a:tab algn="l" pos="10358280"/>
                <a:tab algn="l" pos="10772640"/>
              </a:tabLst>
            </a:pPr>
            <a:fld id="{60556D1B-0138-436D-9162-CE8E279EB3F3}" type="slidenum">
              <a:rPr b="0" i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-4680" y="-25920"/>
            <a:ext cx="9144000" cy="83052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txBody>
          <a:bodyPr lIns="0" rIns="0" tIns="0" bIns="182880" anchor="ctr" anchorCtr="1">
            <a:noAutofit/>
          </a:bodyPr>
          <a:p>
            <a:pPr indent="0" algn="ctr">
              <a:lnSpc>
                <a:spcPct val="17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Two-pion correlation functions in A+A and p+p collisions</a:t>
            </a:r>
            <a:endParaRPr b="1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7" name="Picture 6" descr="c"/>
          <p:cNvPicPr/>
          <p:nvPr/>
        </p:nvPicPr>
        <p:blipFill>
          <a:blip r:embed="rId1"/>
          <a:stretch/>
        </p:blipFill>
        <p:spPr>
          <a:xfrm>
            <a:off x="781200" y="1038240"/>
            <a:ext cx="7581600" cy="478152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6"/>
          <p:cNvSpPr/>
          <p:nvPr/>
        </p:nvSpPr>
        <p:spPr>
          <a:xfrm>
            <a:off x="2036880" y="5964120"/>
            <a:ext cx="5416560" cy="3884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3080" rIns="73080" tIns="18360" bIns="64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  <a:ea typeface="ＭＳ Ｐゴシック"/>
              </a:rPr>
              <a:t>baseline shape is the challenge in p+p data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Symbol zastępczy stopki 1"/>
          <p:cNvSpPr/>
          <p:nvPr/>
        </p:nvSpPr>
        <p:spPr>
          <a:xfrm>
            <a:off x="20520" y="6624720"/>
            <a:ext cx="714384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t">
            <a:noAutofit/>
          </a:bodyPr>
          <a:p>
            <a:pPr>
              <a:lnSpc>
                <a:spcPct val="13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8701200"/>
                <a:tab algn="l" pos="9115560"/>
                <a:tab algn="l" pos="9529920"/>
                <a:tab algn="l" pos="9944280"/>
                <a:tab algn="l" pos="10358280"/>
                <a:tab algn="l" pos="1077264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Dariusz Miskowiec, Particle correlations in ALICE, Physics at the LHC, Hamburg, 10-Jun-2010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ymbol zastępczy numeru slajdu 2"/>
          <p:cNvSpPr/>
          <p:nvPr/>
        </p:nvSpPr>
        <p:spPr>
          <a:xfrm>
            <a:off x="7816680" y="6597720"/>
            <a:ext cx="1219320" cy="26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3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8701200"/>
                <a:tab algn="l" pos="9115560"/>
                <a:tab algn="l" pos="9529920"/>
                <a:tab algn="l" pos="9944280"/>
                <a:tab algn="l" pos="10358280"/>
                <a:tab algn="l" pos="10772640"/>
              </a:tabLst>
            </a:pPr>
            <a:fld id="{ABA8449D-310D-43F9-97D0-75110E438C53}" type="slidenum">
              <a:rPr b="0" i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lide Number Placeholder 2"/>
          <p:cNvSpPr/>
          <p:nvPr/>
        </p:nvSpPr>
        <p:spPr>
          <a:xfrm>
            <a:off x="7816680" y="6597720"/>
            <a:ext cx="1219320" cy="26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3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8701200"/>
                <a:tab algn="l" pos="9115560"/>
                <a:tab algn="l" pos="9529920"/>
                <a:tab algn="l" pos="9944280"/>
                <a:tab algn="l" pos="10358280"/>
                <a:tab algn="l" pos="10772640"/>
              </a:tabLst>
            </a:pPr>
            <a:fld id="{C320352F-66C0-41D7-B536-4F89B115BBCA}" type="slidenum">
              <a:rPr b="0" i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lide Number Placeholder 4"/>
          <p:cNvSpPr/>
          <p:nvPr/>
        </p:nvSpPr>
        <p:spPr>
          <a:xfrm>
            <a:off x="7816680" y="6597720"/>
            <a:ext cx="1219320" cy="26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3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8701200"/>
                <a:tab algn="l" pos="9115560"/>
                <a:tab algn="l" pos="9529920"/>
                <a:tab algn="l" pos="9944280"/>
                <a:tab algn="l" pos="10358280"/>
                <a:tab algn="l" pos="10772640"/>
              </a:tabLst>
            </a:pPr>
            <a:fld id="{D47EBBAB-B017-4F62-8CB8-62CA0BE5CD4B}" type="slidenum">
              <a:rPr b="0" i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8" descr="Santa_Claus"/>
          <p:cNvPicPr/>
          <p:nvPr/>
        </p:nvPicPr>
        <p:blipFill>
          <a:blip r:embed="rId1"/>
          <a:srcRect l="5146" t="0" r="5146" b="0"/>
          <a:stretch/>
        </p:blipFill>
        <p:spPr>
          <a:xfrm>
            <a:off x="-36360" y="-30240"/>
            <a:ext cx="9269280" cy="691524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10"/>
          <p:cNvSpPr/>
          <p:nvPr/>
        </p:nvSpPr>
        <p:spPr>
          <a:xfrm>
            <a:off x="4200120" y="1182600"/>
            <a:ext cx="3775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pp at sqrt(s) = 900 GeV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250 k minimum bias events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10 days starting on Dec 6, 2009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Symbol zastępczy stopki 1"/>
          <p:cNvSpPr/>
          <p:nvPr/>
        </p:nvSpPr>
        <p:spPr>
          <a:xfrm>
            <a:off x="20520" y="6624720"/>
            <a:ext cx="714384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t">
            <a:noAutofit/>
          </a:bodyPr>
          <a:p>
            <a:pPr>
              <a:lnSpc>
                <a:spcPct val="13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8701200"/>
                <a:tab algn="l" pos="9115560"/>
                <a:tab algn="l" pos="9529920"/>
                <a:tab algn="l" pos="9944280"/>
                <a:tab algn="l" pos="10358280"/>
                <a:tab algn="l" pos="1077264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Dariusz Miskowiec, Particle correlations in ALICE, Physics at the LHC, Hamburg, 10-Jun-2010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Symbol zastępczy numeru slajdu 2"/>
          <p:cNvSpPr/>
          <p:nvPr/>
        </p:nvSpPr>
        <p:spPr>
          <a:xfrm>
            <a:off x="7816680" y="6597720"/>
            <a:ext cx="1219320" cy="26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3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8701200"/>
                <a:tab algn="l" pos="9115560"/>
                <a:tab algn="l" pos="9529920"/>
                <a:tab algn="l" pos="9944280"/>
                <a:tab algn="l" pos="10358280"/>
                <a:tab algn="l" pos="10772640"/>
              </a:tabLst>
            </a:pPr>
            <a:fld id="{CD280EA9-DEFD-4131-B99B-51D7A01E0140}" type="slidenum">
              <a:rPr b="0" i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Footer Placeholder 1"/>
          <p:cNvSpPr/>
          <p:nvPr/>
        </p:nvSpPr>
        <p:spPr>
          <a:xfrm>
            <a:off x="136440" y="6597720"/>
            <a:ext cx="627876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3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8701200"/>
                <a:tab algn="l" pos="9115560"/>
                <a:tab algn="l" pos="9529920"/>
                <a:tab algn="l" pos="9944280"/>
                <a:tab algn="l" pos="10358280"/>
                <a:tab algn="l" pos="1077264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. Miskowiec, ALICE femto meeting 2010-03-22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lide Number Placeholder 2"/>
          <p:cNvSpPr/>
          <p:nvPr/>
        </p:nvSpPr>
        <p:spPr>
          <a:xfrm>
            <a:off x="7816680" y="6597720"/>
            <a:ext cx="1219320" cy="26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3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8701200"/>
                <a:tab algn="l" pos="9115560"/>
                <a:tab algn="l" pos="9529920"/>
                <a:tab algn="l" pos="9944280"/>
                <a:tab algn="l" pos="10358280"/>
                <a:tab algn="l" pos="10772640"/>
              </a:tabLst>
            </a:pPr>
            <a:fld id="{C60E0082-1480-4B58-8101-26032F665E6D}" type="slidenum">
              <a:rPr b="0" i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Slide Number Placeholder 4"/>
          <p:cNvSpPr/>
          <p:nvPr/>
        </p:nvSpPr>
        <p:spPr>
          <a:xfrm>
            <a:off x="7816680" y="6597720"/>
            <a:ext cx="1219320" cy="26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3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8701200"/>
                <a:tab algn="l" pos="9115560"/>
                <a:tab algn="l" pos="9529920"/>
                <a:tab algn="l" pos="9944280"/>
                <a:tab algn="l" pos="10358280"/>
                <a:tab algn="l" pos="10772640"/>
              </a:tabLst>
            </a:pPr>
            <a:fld id="{FA9750C9-1879-4650-8C98-A38F07CA1850}" type="slidenum">
              <a:rPr b="0" i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01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txBody>
          <a:bodyPr lIns="0" rIns="0" tIns="0" bIns="182880" anchor="ctr" anchorCtr="1">
            <a:noAutofit/>
          </a:bodyPr>
          <a:p>
            <a:pPr indent="0" algn="ctr">
              <a:lnSpc>
                <a:spcPct val="177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identical pion correlation functions</a:t>
            </a:r>
            <a:endParaRPr b="1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2556000" y="5964120"/>
            <a:ext cx="4321080" cy="3884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3080" rIns="73080" tIns="18360" bIns="64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  <a:ea typeface="ＭＳ Ｐゴシック"/>
              </a:rPr>
              <a:t>Bose-Einstein peak clearly visible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13" descr="c"/>
          <p:cNvPicPr/>
          <p:nvPr/>
        </p:nvPicPr>
        <p:blipFill>
          <a:blip r:embed="rId1"/>
          <a:stretch/>
        </p:blipFill>
        <p:spPr>
          <a:xfrm>
            <a:off x="781200" y="1038240"/>
            <a:ext cx="7581600" cy="47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Symbol zastępczy stopki 1"/>
          <p:cNvSpPr/>
          <p:nvPr/>
        </p:nvSpPr>
        <p:spPr>
          <a:xfrm>
            <a:off x="20520" y="6624720"/>
            <a:ext cx="714384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t">
            <a:noAutofit/>
          </a:bodyPr>
          <a:p>
            <a:pPr>
              <a:lnSpc>
                <a:spcPct val="13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8701200"/>
                <a:tab algn="l" pos="9115560"/>
                <a:tab algn="l" pos="9529920"/>
                <a:tab algn="l" pos="9944280"/>
                <a:tab algn="l" pos="10358280"/>
                <a:tab algn="l" pos="1077264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Dariusz Miskowiec, Particle correlations in ALICE, Physics at the LHC, Hamburg, 10-Jun-2010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ymbol zastępczy numeru slajdu 2"/>
          <p:cNvSpPr/>
          <p:nvPr/>
        </p:nvSpPr>
        <p:spPr>
          <a:xfrm>
            <a:off x="7816680" y="6597720"/>
            <a:ext cx="1219320" cy="26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3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8701200"/>
                <a:tab algn="l" pos="9115560"/>
                <a:tab algn="l" pos="9529920"/>
                <a:tab algn="l" pos="9944280"/>
                <a:tab algn="l" pos="10358280"/>
                <a:tab algn="l" pos="10772640"/>
              </a:tabLst>
            </a:pPr>
            <a:fld id="{ED17257A-941F-4272-A7B6-D2B11DA88A78}" type="slidenum">
              <a:rPr b="0" i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Footer Placeholder 1"/>
          <p:cNvSpPr/>
          <p:nvPr/>
        </p:nvSpPr>
        <p:spPr>
          <a:xfrm>
            <a:off x="136440" y="6597720"/>
            <a:ext cx="627876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3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8701200"/>
                <a:tab algn="l" pos="9115560"/>
                <a:tab algn="l" pos="9529920"/>
                <a:tab algn="l" pos="9944280"/>
                <a:tab algn="l" pos="10358280"/>
                <a:tab algn="l" pos="1077264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. Miskowiec, ALICE femto meeting 2010-03-22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Slide Number Placeholder 2"/>
          <p:cNvSpPr/>
          <p:nvPr/>
        </p:nvSpPr>
        <p:spPr>
          <a:xfrm>
            <a:off x="7816680" y="6597720"/>
            <a:ext cx="1219320" cy="26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3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8701200"/>
                <a:tab algn="l" pos="9115560"/>
                <a:tab algn="l" pos="9529920"/>
                <a:tab algn="l" pos="9944280"/>
                <a:tab algn="l" pos="10358280"/>
                <a:tab algn="l" pos="10772640"/>
              </a:tabLst>
            </a:pPr>
            <a:fld id="{D92E3327-F478-4BFE-AC86-0ED4B1ECFE5F}" type="slidenum">
              <a:rPr b="0" i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Slide Number Placeholder 4"/>
          <p:cNvSpPr/>
          <p:nvPr/>
        </p:nvSpPr>
        <p:spPr>
          <a:xfrm>
            <a:off x="7816680" y="6597720"/>
            <a:ext cx="1219320" cy="26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3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8701200"/>
                <a:tab algn="l" pos="9115560"/>
                <a:tab algn="l" pos="9529920"/>
                <a:tab algn="l" pos="9944280"/>
                <a:tab algn="l" pos="10358280"/>
                <a:tab algn="l" pos="10772640"/>
              </a:tabLst>
            </a:pPr>
            <a:fld id="{650B4722-50B6-4A05-817C-CF1B7B92B1B8}" type="slidenum">
              <a:rPr b="0" i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01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txBody>
          <a:bodyPr lIns="0" rIns="0" tIns="0" bIns="182880" anchor="ctr" anchorCtr="1">
            <a:noAutofit/>
          </a:bodyPr>
          <a:p>
            <a:pPr indent="0" algn="ctr">
              <a:lnSpc>
                <a:spcPct val="177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Unlike-sign pion correlation function</a:t>
            </a:r>
            <a:endParaRPr b="1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Text Box 6"/>
          <p:cNvSpPr/>
          <p:nvPr/>
        </p:nvSpPr>
        <p:spPr>
          <a:xfrm>
            <a:off x="2786040" y="5907240"/>
            <a:ext cx="3917880" cy="43020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3080" rIns="73080" tIns="18360" bIns="64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  <a:ea typeface="ＭＳ Ｐゴシック"/>
              </a:rPr>
              <a:t>Coulomb and K</a:t>
            </a:r>
            <a:r>
              <a:rPr b="1" i="1" lang="en-US" sz="2000" spc="-1" strike="noStrike" baseline="30000">
                <a:solidFill>
                  <a:srgbClr val="cc0000"/>
                </a:solidFill>
                <a:latin typeface="Arial"/>
                <a:ea typeface="ＭＳ Ｐゴシック"/>
              </a:rPr>
              <a:t>0</a:t>
            </a:r>
            <a:r>
              <a:rPr b="1" i="1" lang="en-US" sz="2000" spc="-1" strike="noStrike" baseline="-25000">
                <a:solidFill>
                  <a:srgbClr val="cc0000"/>
                </a:solidFill>
                <a:latin typeface="Arial"/>
                <a:ea typeface="ＭＳ Ｐゴシック"/>
              </a:rPr>
              <a:t>S  </a:t>
            </a:r>
            <a:r>
              <a:rPr b="1" i="1" lang="en-US" sz="2000" spc="-1" strike="noStrike">
                <a:solidFill>
                  <a:srgbClr val="cc0000"/>
                </a:solidFill>
                <a:latin typeface="Arial"/>
                <a:ea typeface="ＭＳ Ｐゴシック"/>
              </a:rPr>
              <a:t>peaks visible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9" descr="c"/>
          <p:cNvPicPr/>
          <p:nvPr/>
        </p:nvPicPr>
        <p:blipFill>
          <a:blip r:embed="rId1"/>
          <a:stretch/>
        </p:blipFill>
        <p:spPr>
          <a:xfrm>
            <a:off x="781200" y="1038240"/>
            <a:ext cx="7581600" cy="47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P</dc:creator>
  <dc:description/>
  <dc:language>en-US</dc:language>
  <cp:lastModifiedBy>JP</cp:lastModifiedBy>
  <dcterms:modified xsi:type="dcterms:W3CDTF">2010-06-13T21:59:19Z</dcterms:modified>
  <cp:revision>467</cp:revision>
  <dc:subject/>
  <dc:title>Correlations and fluctuations from CERES</dc:title>
</cp:coreProperties>
</file>